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0.wmf" ContentType="image/x-wmf"/>
  <Override PartName="/ppt/media/image11.png" ContentType="image/png"/>
  <Override PartName="/ppt/media/image8.jpeg" ContentType="image/jpeg"/>
  <Override PartName="/ppt/media/image9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7088188" cy="10209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88400" cy="102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008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4014360" y="0"/>
            <a:ext cx="307044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990360" y="764640"/>
            <a:ext cx="5105160" cy="382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0" y="9698040"/>
            <a:ext cx="307008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4014360" y="9698040"/>
            <a:ext cx="307044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b">
            <a:noAutofit/>
          </a:bodyPr>
          <a:lstStyle>
            <a:lvl1pPr marL="216000" indent="0" algn="r">
              <a:buNone/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C3AE97C0-C63D-4D5B-B874-232C2820A808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5160" cy="382932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3 Marcador de número de diapositiva"/>
          <p:cNvSpPr/>
          <p:nvPr/>
        </p:nvSpPr>
        <p:spPr>
          <a:xfrm>
            <a:off x="4014720" y="9698040"/>
            <a:ext cx="30704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320" bIns="4932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E077F1D7-0317-4235-815C-C6D039E6F8B0}" type="slidenum">
              <a:rPr b="0" lang="es-ES" sz="13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5160" cy="382932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3 Marcador de número de diapositiva"/>
          <p:cNvSpPr/>
          <p:nvPr/>
        </p:nvSpPr>
        <p:spPr>
          <a:xfrm>
            <a:off x="4014720" y="9698040"/>
            <a:ext cx="30704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320" bIns="4932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2FB5999F-43C0-4A20-B4B5-68696CD2A0B2}" type="slidenum">
              <a:rPr b="0" lang="es-ES" sz="13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4014720" y="9698040"/>
            <a:ext cx="30704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320" bIns="4932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7AE85363-0163-4D8A-96B1-23CA27889826}" type="slidenum">
              <a:rPr b="0" lang="es-ES" sz="13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5160" cy="382932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944280" y="4849920"/>
            <a:ext cx="5197320" cy="45957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eleccionar adecuadamente el hábitat de destino comparándolo con las características del hábitat reinantes en las poblaciones naturales que se encuentran en buen esta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4014720" y="9698040"/>
            <a:ext cx="30704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320" bIns="4932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1C107C49-DE4E-45F5-8C8D-1B833DE0EA61}" type="slidenum">
              <a:rPr b="0" lang="es-ES" sz="13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996840" y="795240"/>
            <a:ext cx="5094360" cy="382104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944280" y="4856040"/>
            <a:ext cx="5197320" cy="461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4014720" y="9698040"/>
            <a:ext cx="30704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320" bIns="4932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C67C5324-E921-4F44-9618-52E031F73C9C}" type="slidenum">
              <a:rPr b="0" lang="es-ES" sz="13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996840" y="795240"/>
            <a:ext cx="5094360" cy="382104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944280" y="4856040"/>
            <a:ext cx="5197320" cy="461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4014720" y="9698040"/>
            <a:ext cx="30704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320" bIns="4932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7FC16AD1-9190-4133-8C6C-AAC6030D3DDD}" type="slidenum">
              <a:rPr b="0" lang="es-ES" sz="13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996840" y="795240"/>
            <a:ext cx="5094360" cy="382104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44280" y="4856040"/>
            <a:ext cx="5197320" cy="461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4014720" y="9698040"/>
            <a:ext cx="30704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320" bIns="4932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14F63AA4-9F68-4946-ACE4-79B788BD249A}" type="slidenum">
              <a:rPr b="0" lang="es-ES" sz="13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996840" y="795240"/>
            <a:ext cx="5094360" cy="382104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44280" y="4856040"/>
            <a:ext cx="5197320" cy="461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4014720" y="9698040"/>
            <a:ext cx="30704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320" bIns="4932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E9434DEE-00A5-4CA7-9995-D9C89F23822A}" type="slidenum">
              <a:rPr b="0" lang="es-ES" sz="13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5160" cy="382932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944280" y="4849920"/>
            <a:ext cx="5197320" cy="45957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t">
            <a:noAutofit/>
          </a:bodyPr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l mayor número razonablemente posibl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4014720" y="9698040"/>
            <a:ext cx="30704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320" bIns="4932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060C5588-2DDA-4805-9966-1F94FAE924E1}" type="slidenum">
              <a:rPr b="0" lang="es-ES" sz="13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996840" y="795240"/>
            <a:ext cx="5094360" cy="382104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944280" y="4856040"/>
            <a:ext cx="5197320" cy="461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4014720" y="9698040"/>
            <a:ext cx="30704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320" bIns="4932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5040B3CA-4121-49AB-A539-1EB4B4B4077E}" type="slidenum">
              <a:rPr b="0" lang="es-ES" sz="13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996840" y="795240"/>
            <a:ext cx="5094360" cy="382104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944280" y="4856040"/>
            <a:ext cx="5197320" cy="461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4014720" y="9698040"/>
            <a:ext cx="30704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320" bIns="4932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63C2F80A-0626-421B-8D6F-9925E302383F}" type="slidenum">
              <a:rPr b="0" lang="es-ES" sz="13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996840" y="795240"/>
            <a:ext cx="5094360" cy="382104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944280" y="4856040"/>
            <a:ext cx="5197320" cy="461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4014720" y="9698040"/>
            <a:ext cx="30704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320" bIns="4932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363C69A5-7308-4092-9401-13CB2919FB02}" type="slidenum">
              <a:rPr b="0" lang="es-ES" sz="13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996840" y="795240"/>
            <a:ext cx="5094360" cy="382104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944280" y="4856040"/>
            <a:ext cx="5197320" cy="461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4014720" y="9698040"/>
            <a:ext cx="30704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320" bIns="4932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EA9CABAC-5F13-48E8-BD31-45938B8CF52E}" type="slidenum">
              <a:rPr b="0" lang="es-ES" sz="13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996840" y="795240"/>
            <a:ext cx="5094360" cy="382104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944280" y="4856040"/>
            <a:ext cx="5197320" cy="461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4014720" y="9698040"/>
            <a:ext cx="30704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320" bIns="4932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F621DC4A-71A9-4F5A-937A-2751A85A7069}" type="slidenum">
              <a:rPr b="0" lang="es-ES" sz="13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996840" y="795240"/>
            <a:ext cx="5094360" cy="382104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944280" y="4856040"/>
            <a:ext cx="5197320" cy="461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4014720" y="9698040"/>
            <a:ext cx="30704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320" bIns="4932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B073A152-A131-4649-AF26-2039F9E4DBD8}" type="slidenum">
              <a:rPr b="0" lang="es-ES" sz="13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996840" y="795240"/>
            <a:ext cx="5094360" cy="382104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944280" y="4856040"/>
            <a:ext cx="5197320" cy="461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4014720" y="9698040"/>
            <a:ext cx="30704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320" bIns="4932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865A1341-9AC0-4A0A-8C38-40591C00419D}" type="slidenum">
              <a:rPr b="0" lang="es-ES" sz="13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5160" cy="382932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44280" y="4849920"/>
            <a:ext cx="5197320" cy="45957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t">
            <a:noAutofit/>
          </a:bodyPr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l mayor número razonablemente posibl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4014720" y="9698040"/>
            <a:ext cx="30704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320" bIns="4932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6C24EF12-EAEA-494A-8829-4A41D1C23BDE}" type="slidenum">
              <a:rPr b="0" lang="es-ES" sz="13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5160" cy="382932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944280" y="4849920"/>
            <a:ext cx="5197320" cy="45957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t">
            <a:noAutofit/>
          </a:bodyPr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l mayor número razonablemente posibl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4014720" y="9698040"/>
            <a:ext cx="30704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320" bIns="4932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B869BEE2-F381-4EF8-BB4D-398772C972F5}" type="slidenum">
              <a:rPr b="0" lang="es-ES" sz="13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5160" cy="382932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44280" y="4849920"/>
            <a:ext cx="5197320" cy="45957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l estado o clase del fundador afecta a la persistenci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La estructura de clases tiende hacia un equilibrio; f (matriz transición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5160" cy="382932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t">
            <a:noAutofit/>
          </a:bodyPr>
          <a:p>
            <a:pPr marL="236520" indent="-23652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Individuos con el mismo fenotipo pueden tener genotipos muy diferentes. Puede llevar a problemas el refuerzo de individuos del mismo fenotipo si no se constata la existencia del mismo genotip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 veces se recomienda seleccionar para maximizar la diversidad genética de un carácter de importancia adaptativa, pero esto puede llevar a reducir la diversidad genética en general de dichas especies o poblaciones. Ej. Se ha propugnado maximizar la diversidad genética de los alelos MHC (Major histocompatibility complex) involucrado en la respuesta inmunitaria de vertebrad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3 Marcador de número de diapositiva"/>
          <p:cNvSpPr/>
          <p:nvPr/>
        </p:nvSpPr>
        <p:spPr>
          <a:xfrm>
            <a:off x="4014720" y="9698040"/>
            <a:ext cx="30704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320" bIns="4932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673B64CB-C77F-453E-B935-002D9E2BB236}" type="slidenum">
              <a:rPr b="0" lang="es-ES" sz="13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503F-356F-4C42-98D7-22D735CC7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35C6-D4E2-4860-869A-5C2C71486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E92F-CD11-4A13-B486-7D7EB5F8A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47AA-5046-4B35-869E-7792717C5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C9E4F-2659-4A45-B4B7-E5EF2B6C1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7CC82-B2B4-40A0-8E8D-2FECB785D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161EF-0A3D-49C4-AF39-B333F0E32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EAC89-308B-4D23-B4F6-59F113B05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0F2EF-16D2-4694-9029-D6B172AB9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1248D-0ACA-48AF-BB63-46F0D7A2E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AFBFA-4AFA-4CBC-A263-9ADF2E16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F96C-793F-4B69-945B-8AC68CE88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316F9-F031-4024-B983-79F403AF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E7D90-E4C3-4D99-86A7-41942C6C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B27BC-DAB3-4B2A-9D3C-CDB4A11F6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BA732-01EA-4646-9835-535F5FDC6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82907-91C1-485A-AC27-C3091E2C2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F7B1-AE7E-440E-ABCD-FA648622C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36A1-4548-4EF6-998D-311FC8562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9BE2-73FA-4232-B0B7-129318BB1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985D-4F99-4D6A-BE90-60BA9872A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11F1-35AB-4CAA-94A6-A65B6F8B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99FA-7DD0-4406-A146-F2C6BA34D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B005-77E9-4264-8938-F3236D775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50920" y="6453000"/>
            <a:ext cx="583272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Times New Roman"/>
              </a:rPr>
              <a:t>Medidas de actuación y planes de recuperación. J.M. Iriondo - Universidad Rey Juan Carl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99757-DE3B-4B0F-A83D-EA7825F493E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9" name="Picture 14" descr="logo"/>
          <p:cNvPicPr/>
          <p:nvPr/>
        </p:nvPicPr>
        <p:blipFill>
          <a:blip r:embed="rId2"/>
          <a:stretch/>
        </p:blipFill>
        <p:spPr>
          <a:xfrm>
            <a:off x="1620720" y="6181560"/>
            <a:ext cx="266760" cy="51444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15" descr="logo"/>
          <p:cNvPicPr/>
          <p:nvPr/>
        </p:nvPicPr>
        <p:blipFill>
          <a:blip r:embed="rId3"/>
          <a:stretch/>
        </p:blipFill>
        <p:spPr>
          <a:xfrm>
            <a:off x="108000" y="6108840"/>
            <a:ext cx="1297080" cy="749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44D17-DBB0-4B4C-98C3-BA485CD86D96}" type="slidenum">
              <a:rPr b="0" lang="es-E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990000"/>
                </a:solidFill>
                <a:latin typeface="Arial"/>
              </a:rPr>
              <a:t>Tema 5. ¿Cuántos? ¿Cuáles? Selección de la población de origen. 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19280" y="3429000"/>
            <a:ext cx="7200720" cy="243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6666"/>
                </a:solidFill>
                <a:latin typeface="Arial"/>
              </a:rPr>
              <a:t>Restitución genética de poblaciones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6666"/>
                </a:solidFill>
                <a:latin typeface="Arial"/>
              </a:rPr>
              <a:t>Master Oficial en Técnicas de Caracterización y Conservación de la Diversidad Genética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6666"/>
                </a:solidFill>
                <a:latin typeface="Arial"/>
              </a:rPr>
              <a:t>Máster Universitario en Restauración de Ecosistemas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José M. Iriondo </a:t>
            </a:r>
            <a:endParaRPr b="0" lang="en-US" sz="1700" spc="-1" strike="noStrike">
              <a:solidFill>
                <a:srgbClr val="336666"/>
              </a:solidFill>
              <a:latin typeface="Arial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Dept. Biología y Geología</a:t>
            </a:r>
            <a:endParaRPr b="0" lang="en-US" sz="1700" spc="-1" strike="noStrike">
              <a:solidFill>
                <a:srgbClr val="336666"/>
              </a:solidFill>
              <a:latin typeface="Arial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Universidad Rey Juan Carlos</a:t>
            </a:r>
            <a:endParaRPr b="0" lang="en-US" sz="1700" spc="-1" strike="noStrike">
              <a:solidFill>
                <a:srgbClr val="336666"/>
              </a:solidFill>
              <a:latin typeface="Arial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01" name="Picture 4" descr="logo"/>
          <p:cNvPicPr/>
          <p:nvPr/>
        </p:nvPicPr>
        <p:blipFill>
          <a:blip r:embed="rId1"/>
          <a:stretch/>
        </p:blipFill>
        <p:spPr>
          <a:xfrm>
            <a:off x="6372360" y="5086440"/>
            <a:ext cx="266400" cy="514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logo"/>
          <p:cNvPicPr/>
          <p:nvPr/>
        </p:nvPicPr>
        <p:blipFill>
          <a:blip r:embed="rId2"/>
          <a:stretch/>
        </p:blipFill>
        <p:spPr>
          <a:xfrm>
            <a:off x="4859280" y="5013360"/>
            <a:ext cx="129708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4 Marcador de pie de página"/>
          <p:cNvSpPr/>
          <p:nvPr/>
        </p:nvSpPr>
        <p:spPr>
          <a:xfrm>
            <a:off x="2050920" y="6453360"/>
            <a:ext cx="58327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Restitución genética de poblaciones. J.M. Iriondo - Universidad Rey Juan Carlos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523880" y="2514240"/>
            <a:ext cx="701064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Una sola población siempre que ésta sea viable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En general, no interesa mezcla de poblaciones salvo en casos extremos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Ruptura de complejos de genes de valor adaptativo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Depresión exogámica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5257800" y="38088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Cuáles?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476000" y="764640"/>
            <a:ext cx="7010280" cy="152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990000"/>
                </a:solidFill>
                <a:latin typeface="Arial"/>
              </a:rPr>
              <a:t>Número de poblaciones fuente</a:t>
            </a:r>
            <a:endParaRPr b="0" lang="en-US" sz="36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24000" y="1547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6" name="11 CuadroTexto"/>
          <p:cNvSpPr/>
          <p:nvPr/>
        </p:nvSpPr>
        <p:spPr>
          <a:xfrm>
            <a:off x="1332000" y="1779480"/>
            <a:ext cx="7812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0000"/>
                </a:solidFill>
                <a:latin typeface="Arial"/>
              </a:rPr>
              <a:t>Depresión exogámica: </a:t>
            </a:r>
            <a:r>
              <a:rPr b="0" lang="es-ES" sz="2400" spc="-1" strike="noStrike">
                <a:solidFill>
                  <a:srgbClr val="336666"/>
                </a:solidFill>
                <a:latin typeface="Arial"/>
              </a:rPr>
              <a:t>Reducción de eficacia biológica tras cruzamiento entre poblaciones diferenciadas genéticamente en la primera y/o sucesivas generaciones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buClr>
                <a:srgbClr val="33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336666"/>
                </a:solidFill>
                <a:latin typeface="Arial"/>
              </a:rPr>
              <a:t>Ibex en Checoslovaquia (1951) Reintroducción de ejemplares de Austria seguido de ejemplares de otra subespecie de Turquía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buClr>
                <a:srgbClr val="33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buClr>
                <a:srgbClr val="33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66"/>
                </a:solidFill>
                <a:latin typeface="Arial"/>
              </a:rPr>
              <a:t>Tema controvertido en cuanto a su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66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336666"/>
                </a:solidFill>
                <a:latin typeface="Arial"/>
              </a:rPr>
              <a:t>extensión y relevancia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476000" y="26028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990000"/>
                </a:solidFill>
                <a:latin typeface="Arial"/>
              </a:rPr>
              <a:t>Número de poblaciones fuente</a:t>
            </a:r>
            <a:endParaRPr b="0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38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9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0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41" name="Picture 12" descr="http://upload.wikimedia.org/wikipedia/commons/7/7f/Spanish_ibex.jpg"/>
          <p:cNvPicPr/>
          <p:nvPr/>
        </p:nvPicPr>
        <p:blipFill>
          <a:blip r:embed="rId1"/>
          <a:stretch/>
        </p:blipFill>
        <p:spPr>
          <a:xfrm>
            <a:off x="6588000" y="4653000"/>
            <a:ext cx="2016360" cy="20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24000" y="1547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3" name="11 CuadroTexto"/>
          <p:cNvSpPr/>
          <p:nvPr/>
        </p:nvSpPr>
        <p:spPr>
          <a:xfrm>
            <a:off x="1476360" y="1773360"/>
            <a:ext cx="7128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0000"/>
                </a:solidFill>
                <a:latin typeface="Arial"/>
              </a:rPr>
              <a:t>Depresión exogámica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buClr>
                <a:srgbClr val="33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336666"/>
                </a:solidFill>
                <a:latin typeface="Arial"/>
              </a:rPr>
              <a:t>Más frecuente cuando el cruzamiento tiene lugar entre poblaciones con elevada adaptación a condiciones locales y escasa dispersión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buClr>
                <a:srgbClr val="33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336666"/>
                </a:solidFill>
                <a:latin typeface="Arial"/>
              </a:rPr>
              <a:t>Más evidencias en plantas que en animales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buClr>
                <a:srgbClr val="33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buClr>
                <a:srgbClr val="33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336666"/>
                </a:solidFill>
                <a:latin typeface="Arial"/>
              </a:rPr>
              <a:t>No se mantiene durante muchas generaciones debido a la acción de la selección natural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1547640" y="33336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990000"/>
                </a:solidFill>
                <a:latin typeface="Arial"/>
              </a:rPr>
              <a:t>Número de poblaciones fuente</a:t>
            </a:r>
            <a:endParaRPr b="0" lang="en-US" sz="36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990000"/>
                </a:solidFill>
                <a:latin typeface="Arial"/>
              </a:rPr>
              <a:t>Número de poblaciones fuente</a:t>
            </a:r>
            <a:endParaRPr b="0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66"/>
                </a:solidFill>
                <a:latin typeface="Arial"/>
              </a:rPr>
              <a:t>Uso de múltiples fuentes: Equilibrio entre utilización de población más cercana y la introducción de proporciones decrecientes de genotipos más distantes que aportan diversidad genética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66"/>
                </a:solidFill>
                <a:latin typeface="Arial"/>
              </a:rPr>
              <a:t>Predictive sourcing: utilización de modelos para la selección de poblaciones fuente con genotipos adaptados a las condiciones actuales o futuras de la localidad de destino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7" name="3 Marcador de pie de página"/>
          <p:cNvSpPr/>
          <p:nvPr/>
        </p:nvSpPr>
        <p:spPr>
          <a:xfrm>
            <a:off x="2050920" y="6453360"/>
            <a:ext cx="58327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Medidas de actuación y planes de recuperación. J.M. Iriondo - Universidad Rey Juan Carlos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4 Marcador de pie de página"/>
          <p:cNvSpPr/>
          <p:nvPr/>
        </p:nvSpPr>
        <p:spPr>
          <a:xfrm>
            <a:off x="2050920" y="6453360"/>
            <a:ext cx="58327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Restitución genética de poblaciiones. J.M. Iriondo - Universidad Rey Juan Carlos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66"/>
                </a:solidFill>
                <a:latin typeface="Arial"/>
              </a:rPr>
              <a:t>Idealmente los fundadores se establecen directamente en la población de destino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66"/>
                </a:solidFill>
                <a:latin typeface="Arial"/>
              </a:rPr>
              <a:t>Cuando el número es escaso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66"/>
                </a:solidFill>
                <a:latin typeface="Arial"/>
              </a:rPr>
              <a:t>Propagación </a:t>
            </a:r>
            <a:r>
              <a:rPr b="0" i="1" lang="es-ES" sz="2400" spc="-1" strike="noStrike">
                <a:solidFill>
                  <a:srgbClr val="336666"/>
                </a:solidFill>
                <a:latin typeface="Arial"/>
              </a:rPr>
              <a:t>ex situ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66"/>
                </a:solidFill>
                <a:latin typeface="Arial"/>
              </a:rPr>
              <a:t>Enfasis en el aumento de la población para evitar la pérdida de diversidad genética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66"/>
                </a:solidFill>
                <a:latin typeface="Arial"/>
              </a:rPr>
              <a:t>Tamaño efectivo necesario (Ne): 475/L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66"/>
                </a:solidFill>
                <a:latin typeface="Arial"/>
              </a:rPr>
              <a:t>L: Tiempo de generación (tiempo medio en adquirir la madurez)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66"/>
                </a:solidFill>
                <a:latin typeface="Arial"/>
              </a:rPr>
              <a:t>Especie anual: Ne=475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1476000" y="26028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990000"/>
                </a:solidFill>
                <a:latin typeface="Arial"/>
              </a:rPr>
              <a:t>Población </a:t>
            </a:r>
            <a:r>
              <a:rPr b="0" i="1" lang="es-ES" sz="4200" spc="-1" strike="noStrike">
                <a:solidFill>
                  <a:srgbClr val="990000"/>
                </a:solidFill>
                <a:latin typeface="Arial"/>
              </a:rPr>
              <a:t>ex situ</a:t>
            </a:r>
            <a:endParaRPr b="0" lang="en-US" sz="4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6956280" y="189000"/>
            <a:ext cx="2187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Cuáles?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4 Marcador de pie de página"/>
          <p:cNvSpPr/>
          <p:nvPr/>
        </p:nvSpPr>
        <p:spPr>
          <a:xfrm>
            <a:off x="2050920" y="6453360"/>
            <a:ext cx="58327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Restitución genética de poblaciiones.. J.M. Iriondo - Universidad Rey Juan Carlos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042560" y="2060640"/>
            <a:ext cx="5581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Maximizar el nº de genotipos fundadores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Población Mínima Viable genética o el mayor número de individuos razonablemente posible 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Estructura de edades equilibrada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Estructura espacial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Propagación clonal: Mantener nº similares de propágulos para cada fundador 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54" name="Picture 5" descr="invernadero1"/>
          <p:cNvPicPr/>
          <p:nvPr/>
        </p:nvPicPr>
        <p:blipFill>
          <a:blip r:embed="rId1"/>
          <a:stretch/>
        </p:blipFill>
        <p:spPr>
          <a:xfrm>
            <a:off x="6324480" y="2438280"/>
            <a:ext cx="2533680" cy="33530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6"/>
          <p:cNvSpPr/>
          <p:nvPr/>
        </p:nvSpPr>
        <p:spPr>
          <a:xfrm>
            <a:off x="5257800" y="38088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Cuáles?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990000"/>
                </a:solidFill>
                <a:latin typeface="Arial"/>
              </a:rPr>
              <a:t>Número efectivo </a:t>
            </a:r>
            <a:endParaRPr b="0" lang="en-US" sz="4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4 Marcador de pie de página"/>
          <p:cNvSpPr/>
          <p:nvPr/>
        </p:nvSpPr>
        <p:spPr>
          <a:xfrm>
            <a:off x="2050920" y="6453360"/>
            <a:ext cx="58327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Restitución genética de poblaciiones.. J.M. Iriondo - Universidad Rey Juan Carlos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66"/>
                </a:solidFill>
                <a:latin typeface="Arial"/>
              </a:rPr>
              <a:t>Recursos limitados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66"/>
                </a:solidFill>
                <a:latin typeface="Arial"/>
              </a:rPr>
              <a:t>Objetivo: maximizar Ne utilizando un mínimo de individuos.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66"/>
                </a:solidFill>
                <a:latin typeface="Arial"/>
              </a:rPr>
              <a:t>Igualar los tamaños de las familias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66"/>
                </a:solidFill>
                <a:latin typeface="Arial"/>
              </a:rPr>
              <a:t>Igualar la estructura sexual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66"/>
                </a:solidFill>
                <a:latin typeface="Arial"/>
              </a:rPr>
              <a:t>Igualar el tamaño de la población a lo largo de las generaciones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66"/>
                </a:solidFill>
                <a:latin typeface="Arial"/>
              </a:rPr>
              <a:t>Maximizar el tiempo de generación (L)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5257800" y="38088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Cuáles?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990000"/>
                </a:solidFill>
                <a:latin typeface="Arial"/>
              </a:rPr>
              <a:t>Maximizar Ne/N</a:t>
            </a:r>
            <a:endParaRPr b="0" lang="en-US" sz="4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4 Marcador de pie de página"/>
          <p:cNvSpPr/>
          <p:nvPr/>
        </p:nvSpPr>
        <p:spPr>
          <a:xfrm>
            <a:off x="2050920" y="6453360"/>
            <a:ext cx="58327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Restitución genética de poblaciiones.. J.M. Iriondo - Universidad Rey Juan Carlos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837720" y="2438280"/>
            <a:ext cx="678204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00"/>
                </a:solidFill>
                <a:latin typeface="Arial"/>
              </a:rPr>
              <a:t>Plantas alógamas:</a:t>
            </a:r>
            <a:r>
              <a:rPr b="0" lang="es-ES_tradnl" sz="2400" spc="-1" strike="noStrike">
                <a:solidFill>
                  <a:srgbClr val="cccccc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minimizar endogamia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Plantar los distintos genotipos de forma sistemática, no agrupar los clones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Marco de plantación a alta densidad para promover la fertilización cruzada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5257800" y="38088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Cuáles?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990000"/>
                </a:solidFill>
                <a:latin typeface="Arial"/>
              </a:rPr>
              <a:t>Número efectivo </a:t>
            </a:r>
            <a:endParaRPr b="0" lang="en-US" sz="4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4 Marcador de pie de página"/>
          <p:cNvSpPr/>
          <p:nvPr/>
        </p:nvSpPr>
        <p:spPr>
          <a:xfrm>
            <a:off x="2050920" y="6453360"/>
            <a:ext cx="58327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Restitución genética de poblaciiones.. J.M. Iriondo - Universidad Rey Juan Carlos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476000" y="198864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Precaución con material criado/cultivado en condiciones </a:t>
            </a:r>
            <a:r>
              <a:rPr b="0" i="1" lang="es-ES_tradnl" sz="2400" spc="-1" strike="noStrike">
                <a:solidFill>
                  <a:srgbClr val="336666"/>
                </a:solidFill>
                <a:latin typeface="Arial"/>
              </a:rPr>
              <a:t>ex situ </a:t>
            </a: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durante varias generaciones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Deterioro por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Pérdida de diversidad genética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Depresión endogámica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Acumulación de mutaciones deletéreas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Adaptación genética a la cautividad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5257800" y="38088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Cuáles?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1476360" y="260280"/>
            <a:ext cx="701028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990000"/>
                </a:solidFill>
                <a:latin typeface="Arial"/>
              </a:rPr>
              <a:t>Población </a:t>
            </a:r>
            <a:r>
              <a:rPr b="0" i="1" lang="es-ES" sz="4200" spc="-1" strike="noStrike">
                <a:solidFill>
                  <a:srgbClr val="990000"/>
                </a:solidFill>
                <a:latin typeface="Arial"/>
              </a:rPr>
              <a:t>ex situ</a:t>
            </a:r>
            <a:endParaRPr b="0" lang="en-US" sz="4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4 Marcador de pie de página"/>
          <p:cNvSpPr/>
          <p:nvPr/>
        </p:nvSpPr>
        <p:spPr>
          <a:xfrm>
            <a:off x="2050920" y="6453360"/>
            <a:ext cx="58327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Restitución genética de poblaciiones.. J.M. Iriondo - Universidad Rey Juan Carlos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476000" y="19159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Vida en condiciones </a:t>
            </a:r>
            <a:r>
              <a:rPr b="0" i="1" lang="es-ES_tradnl" sz="2400" spc="-1" strike="noStrike">
                <a:solidFill>
                  <a:srgbClr val="336666"/>
                </a:solidFill>
                <a:latin typeface="Arial"/>
              </a:rPr>
              <a:t>ex situ </a:t>
            </a: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durante varias generaciones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Desaparecen / cambian presiones selectivas por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Depredadores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Parásitos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Enfermedades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Competencia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Pérdida de fitness al devolverlos a la naturaleza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5257800" y="38088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Cuáles?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1476360" y="260280"/>
            <a:ext cx="701028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990000"/>
                </a:solidFill>
                <a:latin typeface="Arial"/>
              </a:rPr>
              <a:t>Población </a:t>
            </a:r>
            <a:r>
              <a:rPr b="0" i="1" lang="es-ES" sz="4200" spc="-1" strike="noStrike">
                <a:solidFill>
                  <a:srgbClr val="990000"/>
                </a:solidFill>
                <a:latin typeface="Arial"/>
              </a:rPr>
              <a:t>ex situ</a:t>
            </a:r>
            <a:endParaRPr b="0" lang="en-US" sz="4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4 Marcador de pie de página"/>
          <p:cNvSpPr/>
          <p:nvPr/>
        </p:nvSpPr>
        <p:spPr>
          <a:xfrm>
            <a:off x="2050920" y="6453360"/>
            <a:ext cx="58327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Restitución genética de poblaciones. J.M. Iriondo - Universidad Rey Juan Carlos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03280" y="549000"/>
            <a:ext cx="6337440" cy="81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990000"/>
                </a:solidFill>
                <a:latin typeface="Arial"/>
              </a:rPr>
              <a:t>Elementos de diseño</a:t>
            </a:r>
            <a:endParaRPr b="0" lang="en-US" sz="4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73080" y="2243160"/>
            <a:ext cx="67816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0000"/>
                </a:solidFill>
                <a:latin typeface="Arial"/>
              </a:rPr>
              <a:t>Comprender</a:t>
            </a:r>
            <a:r>
              <a:rPr b="0" lang="es-ES" sz="20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336666"/>
                </a:solidFill>
                <a:latin typeface="Arial"/>
              </a:rPr>
              <a:t>en profundidad el funcionamiento de la especie, su rango ecológico y sus limitaciones.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6666"/>
                </a:solidFill>
                <a:latin typeface="Arial"/>
              </a:rPr>
              <a:t>Planteamiento de </a:t>
            </a:r>
            <a:r>
              <a:rPr b="0" lang="es-ES" sz="2000" spc="-1" strike="noStrike">
                <a:solidFill>
                  <a:srgbClr val="990000"/>
                </a:solidFill>
                <a:latin typeface="Arial"/>
              </a:rPr>
              <a:t>objetivos</a:t>
            </a:r>
            <a:r>
              <a:rPr b="0" lang="es-ES" sz="2000" spc="-1" strike="noStrike">
                <a:solidFill>
                  <a:srgbClr val="336666"/>
                </a:solidFill>
                <a:latin typeface="Arial"/>
              </a:rPr>
              <a:t> y medida del éxito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6666"/>
                </a:solidFill>
                <a:latin typeface="Arial"/>
              </a:rPr>
              <a:t>Diseño y ejecución del programa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6666"/>
                </a:solidFill>
                <a:latin typeface="Arial"/>
              </a:rPr>
              <a:t>Seleccionar adecuadamente el hábitat de destino. </a:t>
            </a:r>
            <a:r>
              <a:rPr b="0" lang="es-ES" sz="2000" spc="-1" strike="noStrike">
                <a:solidFill>
                  <a:srgbClr val="990000"/>
                </a:solidFill>
                <a:latin typeface="Arial"/>
              </a:rPr>
              <a:t>¿Dónde?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6666"/>
                </a:solidFill>
                <a:latin typeface="Arial"/>
              </a:rPr>
              <a:t>Introducir poblaciones que se asemejen a las poblaciones naturales viables en su tamaño y estructuración genética, etaria, espacial y sexual.</a:t>
            </a:r>
            <a:r>
              <a:rPr b="0" lang="es-ES" sz="20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990000"/>
                </a:solidFill>
                <a:latin typeface="Arial"/>
              </a:rPr>
              <a:t>¿Cuántos? ¿Cuáles?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6666"/>
                </a:solidFill>
                <a:latin typeface="Arial"/>
              </a:rPr>
              <a:t>Ejecución de la actuación </a:t>
            </a:r>
            <a:r>
              <a:rPr b="0" lang="es-ES" sz="2000" spc="-1" strike="noStrike">
                <a:solidFill>
                  <a:srgbClr val="990000"/>
                </a:solidFill>
                <a:latin typeface="Arial"/>
              </a:rPr>
              <a:t>¿Cómo? Seguimiento.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1547640" y="155736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rograma de restitución: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6732720" y="44280"/>
            <a:ext cx="230508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4 Marcador de pie de página"/>
          <p:cNvSpPr/>
          <p:nvPr/>
        </p:nvSpPr>
        <p:spPr>
          <a:xfrm>
            <a:off x="2050920" y="6453360"/>
            <a:ext cx="58327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Restitución genética de poblaciiones.. J.M. Iriondo - Universidad Rey Juan Carlos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476000" y="198864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Factores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Nº generaciones en cautividad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Tiempo de generación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Diferencial de selección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Tamaños poblacionales elevados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Alternativas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Crioconservación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5257800" y="38088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Cuáles?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1476360" y="260280"/>
            <a:ext cx="701028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990000"/>
                </a:solidFill>
                <a:latin typeface="Arial"/>
              </a:rPr>
              <a:t>Población </a:t>
            </a:r>
            <a:r>
              <a:rPr b="0" i="1" lang="es-ES" sz="4200" spc="-1" strike="noStrike">
                <a:solidFill>
                  <a:srgbClr val="990000"/>
                </a:solidFill>
                <a:latin typeface="Arial"/>
              </a:rPr>
              <a:t>ex situ</a:t>
            </a:r>
            <a:endParaRPr b="0" lang="en-US" sz="4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4 Marcador de pie de página"/>
          <p:cNvSpPr/>
          <p:nvPr/>
        </p:nvSpPr>
        <p:spPr>
          <a:xfrm>
            <a:off x="2050920" y="6453360"/>
            <a:ext cx="58327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Restitución genética de poblaciiones.. J.M. Iriondo - Universidad Rey Juan Carlos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837720" y="2438280"/>
            <a:ext cx="678204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Saludables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Alto potencial reproductivo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Bajos coeficientes de endogamia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Aportan diversidad genética a la población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5257800" y="38088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Cuáles?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1476000" y="764640"/>
            <a:ext cx="7010280" cy="152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990000"/>
                </a:solidFill>
                <a:latin typeface="Arial"/>
              </a:rPr>
              <a:t>Selección de individuos</a:t>
            </a:r>
            <a:endParaRPr b="0" lang="en-US" sz="4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4 Marcador de pie de página"/>
          <p:cNvSpPr/>
          <p:nvPr/>
        </p:nvSpPr>
        <p:spPr>
          <a:xfrm>
            <a:off x="2050920" y="6453360"/>
            <a:ext cx="58327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Restitución genética de poblaciiones.. J.M. Iriondo - Universidad Rey Juan Carlos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619280" y="1844640"/>
            <a:ext cx="678168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990000"/>
                </a:solidFill>
                <a:latin typeface="Arial"/>
              </a:rPr>
              <a:t>Narcissus cavanillesii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Población fuente: Montes Juntos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Todos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990000"/>
                </a:solidFill>
                <a:latin typeface="Arial"/>
              </a:rPr>
              <a:t>Cypripedium calceolus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Selección del material de origen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5257800" y="38088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Cuáles?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4 Marcador de pie de página"/>
          <p:cNvSpPr/>
          <p:nvPr/>
        </p:nvSpPr>
        <p:spPr>
          <a:xfrm>
            <a:off x="2050920" y="6453360"/>
            <a:ext cx="58327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Restitución genética de poblaciiones.. J.M. Iriondo - Universidad Rey Juan Carlos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1866600" y="2285640"/>
            <a:ext cx="50878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Criterios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demográficos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ecológicos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geográficos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genéticos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86" name="Picture 3" descr="planta cypri"/>
          <p:cNvPicPr/>
          <p:nvPr/>
        </p:nvPicPr>
        <p:blipFill>
          <a:blip r:embed="rId1"/>
          <a:srcRect l="0" t="0" r="0" b="12067"/>
          <a:stretch/>
        </p:blipFill>
        <p:spPr>
          <a:xfrm>
            <a:off x="5562720" y="2133720"/>
            <a:ext cx="2608200" cy="335268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6"/>
          <p:cNvSpPr/>
          <p:nvPr/>
        </p:nvSpPr>
        <p:spPr>
          <a:xfrm>
            <a:off x="6740640" y="189000"/>
            <a:ext cx="240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Cuáles?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200" spc="-1" strike="noStrike">
                <a:solidFill>
                  <a:srgbClr val="990000"/>
                </a:solidFill>
                <a:latin typeface="Arial"/>
              </a:rPr>
              <a:t>Cypripedium calceolus</a:t>
            </a:r>
            <a:endParaRPr b="0" lang="en-US" sz="4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4 Marcador de pie de página"/>
          <p:cNvSpPr/>
          <p:nvPr/>
        </p:nvSpPr>
        <p:spPr>
          <a:xfrm>
            <a:off x="2050920" y="6453360"/>
            <a:ext cx="58327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Restitución genética de poblaciiones. J.M. Iriondo - Universidad Rey Juan Carlos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1523520" y="2362320"/>
            <a:ext cx="4240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Distribución actual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Sallent (Sallent)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Pineta (Bielsa)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Faja Tormosa (Bielsa)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Ordesa (Torla)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4745160" y="2825640"/>
            <a:ext cx="309708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800080"/>
                </a:solidFill>
                <a:latin typeface="Arial"/>
              </a:rPr>
              <a:t>2353 individuos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45720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800080"/>
                </a:solidFill>
                <a:latin typeface="Arial"/>
              </a:rPr>
              <a:t>577 individuos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45720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800080"/>
                </a:solidFill>
                <a:latin typeface="Arial"/>
              </a:rPr>
              <a:t>183 individuos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45720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800080"/>
                </a:solidFill>
                <a:latin typeface="Arial"/>
              </a:rPr>
              <a:t>8 individuos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45720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6740640" y="189000"/>
            <a:ext cx="240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Cuáles?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200" spc="-1" strike="noStrike">
                <a:solidFill>
                  <a:srgbClr val="990000"/>
                </a:solidFill>
                <a:latin typeface="Arial"/>
              </a:rPr>
              <a:t>Cypripedium calceolus</a:t>
            </a:r>
            <a:endParaRPr b="0" lang="en-US" sz="4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4 Marcador de pie de página"/>
          <p:cNvSpPr/>
          <p:nvPr/>
        </p:nvSpPr>
        <p:spPr>
          <a:xfrm>
            <a:off x="2050920" y="6453360"/>
            <a:ext cx="58327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Restitución genética de poblaciiones. J.M. Iriondo - Universidad Rey Juan Carlos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66"/>
                </a:solidFill>
                <a:latin typeface="Arial"/>
              </a:rPr>
              <a:t>Criterio demográfico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124000" y="2276640"/>
            <a:ext cx="472464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ff"/>
                </a:solidFill>
                <a:latin typeface="Arial"/>
              </a:rPr>
              <a:t>Población-núcleo</a:t>
            </a:r>
            <a:r>
              <a:rPr b="0" lang="es-ES_tradnl" sz="18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33ff"/>
                </a:solidFill>
                <a:latin typeface="Arial"/>
              </a:rPr>
              <a:t>                  Tamaño (2001)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Sallent  1a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1968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Sallent  1b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  158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Sallent  1c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    72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Sallent  1d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  155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Ordesa 2a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      6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Ordesa 2b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      2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Pineta   3a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  413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Pineta   3b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  154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Pineta   3c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      7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Pineta   3d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      3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6740640" y="189000"/>
            <a:ext cx="240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Cuáles?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200" spc="-1" strike="noStrike">
                <a:solidFill>
                  <a:srgbClr val="990000"/>
                </a:solidFill>
                <a:latin typeface="Arial"/>
              </a:rPr>
              <a:t>Cypripedium calceolus</a:t>
            </a:r>
            <a:endParaRPr b="0" lang="en-US" sz="4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4 Marcador de pie de página"/>
          <p:cNvSpPr/>
          <p:nvPr/>
        </p:nvSpPr>
        <p:spPr>
          <a:xfrm>
            <a:off x="2050920" y="6453360"/>
            <a:ext cx="58327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Restitución genética de poblaciiones.. J.M. Iriondo - Universidad Rey Juan Carlos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2124000" y="2276640"/>
            <a:ext cx="472464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ff"/>
                </a:solidFill>
                <a:latin typeface="Arial"/>
              </a:rPr>
              <a:t>Población-núcleo</a:t>
            </a:r>
            <a:r>
              <a:rPr b="0" lang="es-ES_tradnl" sz="18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33ff"/>
                </a:solidFill>
                <a:latin typeface="Arial"/>
              </a:rPr>
              <a:t>Tamaño (2001)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Sallent  1a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cc0000"/>
                </a:solidFill>
                <a:latin typeface="Arial"/>
              </a:rPr>
              <a:t>1968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Sallent  1b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  158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Sallent  1c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    72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Sallent  1d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  155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Ordesa 2a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      6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Ordesa 2b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      2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Pineta   3a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  </a:t>
            </a:r>
            <a:r>
              <a:rPr b="0" lang="es-ES_tradnl" sz="1800" spc="-1" strike="noStrike">
                <a:solidFill>
                  <a:srgbClr val="cc0000"/>
                </a:solidFill>
                <a:latin typeface="Arial"/>
              </a:rPr>
              <a:t>413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Pineta   3b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  154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Pineta   3c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      7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Pineta   3d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6666"/>
                </a:solidFill>
                <a:latin typeface="Arial"/>
              </a:rPr>
              <a:t>      3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684360" y="12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66"/>
                </a:solidFill>
                <a:latin typeface="Arial"/>
              </a:rPr>
              <a:t>Criterio demográfico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02" name="Rectangle 8"/>
          <p:cNvSpPr/>
          <p:nvPr/>
        </p:nvSpPr>
        <p:spPr>
          <a:xfrm>
            <a:off x="6740640" y="189000"/>
            <a:ext cx="240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Cuáles?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3" name="Rectangle 9"/>
          <p:cNvSpPr/>
          <p:nvPr/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200" spc="-1" strike="noStrike">
                <a:solidFill>
                  <a:srgbClr val="990000"/>
                </a:solidFill>
                <a:latin typeface="Arial"/>
              </a:rPr>
              <a:t>Cypripedium calceolus</a:t>
            </a:r>
            <a:endParaRPr b="0" lang="en-US" sz="4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4 Marcador de pie de página"/>
          <p:cNvSpPr/>
          <p:nvPr/>
        </p:nvSpPr>
        <p:spPr>
          <a:xfrm>
            <a:off x="2050920" y="6453360"/>
            <a:ext cx="58327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Restitución genética de poblaciiones. J.M. Iriondo - Universidad Rey Juan Carlos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1258560" y="227664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ff"/>
                </a:solidFill>
                <a:latin typeface="Arial"/>
              </a:rPr>
              <a:t>Sallent de Gállego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sustrato calizo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suelos coluviales desarrollados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laderas de fuerte pendiente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orientación Norte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hayedo - pastizal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altitud 1460-1625 m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206" name="Picture 4" descr="SallentCasa"/>
          <p:cNvPicPr/>
          <p:nvPr/>
        </p:nvPicPr>
        <p:blipFill>
          <a:blip r:embed="rId1"/>
          <a:stretch/>
        </p:blipFill>
        <p:spPr>
          <a:xfrm>
            <a:off x="6516720" y="1773360"/>
            <a:ext cx="2341440" cy="358128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9"/>
          <p:cNvSpPr/>
          <p:nvPr/>
        </p:nvSpPr>
        <p:spPr>
          <a:xfrm>
            <a:off x="6740640" y="189000"/>
            <a:ext cx="240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Cuáles?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990000"/>
                </a:solidFill>
                <a:latin typeface="Arial"/>
              </a:rPr>
              <a:t>Criterio ecológico</a:t>
            </a:r>
            <a:endParaRPr b="0" lang="en-US" sz="4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4 Marcador de pie de página"/>
          <p:cNvSpPr/>
          <p:nvPr/>
        </p:nvSpPr>
        <p:spPr>
          <a:xfrm>
            <a:off x="2050920" y="6453360"/>
            <a:ext cx="58327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Restitución genética de poblaciiones. J.M. Iriondo - Universidad Rey Juan Carlos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ff"/>
                </a:solidFill>
                <a:latin typeface="Arial"/>
              </a:rPr>
              <a:t>Pineta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depósitos aluviales de fondo de valle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capa freática superficial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bosque mixto de ribera, fondo de barranco y piso altimontano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altitud 1200-1250 m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211" name="Picture 4" descr="BosquePineta"/>
          <p:cNvPicPr/>
          <p:nvPr/>
        </p:nvPicPr>
        <p:blipFill>
          <a:blip r:embed="rId1"/>
          <a:stretch/>
        </p:blipFill>
        <p:spPr>
          <a:xfrm>
            <a:off x="4859280" y="3645000"/>
            <a:ext cx="3657600" cy="244152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10"/>
          <p:cNvSpPr/>
          <p:nvPr/>
        </p:nvSpPr>
        <p:spPr>
          <a:xfrm>
            <a:off x="6740640" y="189000"/>
            <a:ext cx="240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Cuáles?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3" name="Rectangle 12"/>
          <p:cNvSpPr/>
          <p:nvPr/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990000"/>
                </a:solidFill>
                <a:latin typeface="Arial"/>
              </a:rPr>
              <a:t>Criterio ecológico</a:t>
            </a:r>
            <a:endParaRPr b="0" lang="en-US" sz="4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4 Marcador de pie de página"/>
          <p:cNvSpPr/>
          <p:nvPr/>
        </p:nvSpPr>
        <p:spPr>
          <a:xfrm>
            <a:off x="2050920" y="6453360"/>
            <a:ext cx="58327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Restitución genética de poblaciiones. J.M. Iriondo - Universidad Rey Juan Carlos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990000"/>
                </a:solidFill>
                <a:latin typeface="Arial"/>
              </a:rPr>
              <a:t>Criterio ecológico</a:t>
            </a:r>
            <a:endParaRPr b="0" lang="en-US" sz="4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ff"/>
                </a:solidFill>
                <a:latin typeface="Arial"/>
              </a:rPr>
              <a:t>Valle de Ordesa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más parecido a Sallent de Gállego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hayedo, caliza, pendiente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5257800" y="38088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Cuáles?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4 Marcador de pie de página"/>
          <p:cNvSpPr/>
          <p:nvPr/>
        </p:nvSpPr>
        <p:spPr>
          <a:xfrm>
            <a:off x="2050920" y="6453360"/>
            <a:ext cx="58327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Restitución genética de poblaciones. J.M. Iriondo - Universidad Rey Juan Carlos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bjetivo:</a:t>
            </a:r>
            <a:r>
              <a:rPr b="0" lang="es-ES_tradnl" sz="2400" spc="-1" strike="noStrike">
                <a:solidFill>
                  <a:srgbClr val="cccccc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Maximizar el crecimiento de la población y evitar la extinción local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Tamaño de la población: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Mínima Población Viable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Tamaños de poblaciones naturales viables.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Cuanto más mejor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No debe afectar a la población fuente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990000"/>
                </a:solidFill>
                <a:latin typeface="Arial"/>
              </a:rPr>
              <a:t>¿Cuántos?</a:t>
            </a:r>
            <a:endParaRPr b="0" lang="en-US" sz="4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4 Marcador de pie de página"/>
          <p:cNvSpPr/>
          <p:nvPr/>
        </p:nvSpPr>
        <p:spPr>
          <a:xfrm>
            <a:off x="2050920" y="6453360"/>
            <a:ext cx="58327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Restitución genética de poblaciiones.  J.M. Iriondo - Universidad Rey Juan Carlos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ff"/>
                </a:solidFill>
                <a:latin typeface="Arial"/>
              </a:rPr>
              <a:t>Linea recta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Ordesa - Pineta: 12 km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Ordesa - Sallent: 27 km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ff"/>
                </a:solidFill>
                <a:latin typeface="Arial"/>
              </a:rPr>
              <a:t>Por carretera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Ordesa - Pineta: 72 km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Ordesa - Sallent: 43 km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5257800" y="38088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Cuáles?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990000"/>
                </a:solidFill>
                <a:latin typeface="Arial"/>
              </a:rPr>
              <a:t>Criterio geográfico</a:t>
            </a:r>
            <a:endParaRPr b="0" lang="en-US" sz="4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4 Marcador de pie de página"/>
          <p:cNvSpPr/>
          <p:nvPr/>
        </p:nvSpPr>
        <p:spPr>
          <a:xfrm>
            <a:off x="2050920" y="6453360"/>
            <a:ext cx="58327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Restitución genética de poblaciiones. J.M. Iriondo - Universidad Rey Juan Carlos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Marcadores moleculares basados en la reacción en cadena de la polimerasa (PCR)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ISSR (Inter Simple Sequence Repeat)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Sallent (50)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Pineta (50)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Ordesa (5)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Faja Tormosa (50)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224" name="Picture 4" descr="889"/>
          <p:cNvPicPr/>
          <p:nvPr/>
        </p:nvPicPr>
        <p:blipFill>
          <a:blip r:embed="rId1"/>
          <a:stretch/>
        </p:blipFill>
        <p:spPr>
          <a:xfrm>
            <a:off x="5076720" y="3860640"/>
            <a:ext cx="2930760" cy="200664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6"/>
          <p:cNvSpPr/>
          <p:nvPr/>
        </p:nvSpPr>
        <p:spPr>
          <a:xfrm>
            <a:off x="5257800" y="38088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Cuáles?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990000"/>
                </a:solidFill>
                <a:latin typeface="Arial"/>
              </a:rPr>
              <a:t>Criterio genético</a:t>
            </a:r>
            <a:endParaRPr b="0" lang="en-US" sz="4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4 Marcador de pie de página"/>
          <p:cNvSpPr/>
          <p:nvPr/>
        </p:nvSpPr>
        <p:spPr>
          <a:xfrm>
            <a:off x="2050920" y="6453360"/>
            <a:ext cx="58327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Restitución genética de poblaciiones. J.M. Iriondo - Universidad Rey Juan Carlos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28 bandas polimórficas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Porcentaje de bandas polimórficas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51% Pineta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38% Sallent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28% Ordesa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16% Faja Tormosa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5257800" y="38088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Cuáles?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990000"/>
                </a:solidFill>
                <a:latin typeface="Arial"/>
              </a:rPr>
              <a:t>Criterio genético</a:t>
            </a:r>
            <a:endParaRPr b="0" lang="en-US" sz="4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4 Marcador de pie de página"/>
          <p:cNvSpPr/>
          <p:nvPr/>
        </p:nvSpPr>
        <p:spPr>
          <a:xfrm>
            <a:off x="2050920" y="6453360"/>
            <a:ext cx="58327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Restitución genética de poblaciiones.  J.M. Iriondo - Universidad Rey Juan Carlos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Análisis Molecular de Varianza (AMOVA)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78,5% dentro de poblaciones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21,5% entre poblaciones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5257800" y="38088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Cuáles?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990000"/>
                </a:solidFill>
                <a:latin typeface="Arial"/>
              </a:rPr>
              <a:t>Criterio genético</a:t>
            </a:r>
            <a:endParaRPr b="0" lang="en-US" sz="4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2 Marcador de pie de página"/>
          <p:cNvSpPr/>
          <p:nvPr/>
        </p:nvSpPr>
        <p:spPr>
          <a:xfrm>
            <a:off x="2050920" y="6453360"/>
            <a:ext cx="58327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Restitución genética de poblaciiones. J.M. Iriondo - Universidad Rey Juan Carlos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6" name="Rectangle 2"/>
          <p:cNvSpPr/>
          <p:nvPr/>
        </p:nvSpPr>
        <p:spPr>
          <a:xfrm>
            <a:off x="4097160" y="6186600"/>
            <a:ext cx="1250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oeficiente de Nei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7" name="Line 3"/>
          <p:cNvSpPr/>
          <p:nvPr/>
        </p:nvSpPr>
        <p:spPr>
          <a:xfrm>
            <a:off x="838080" y="5931000"/>
            <a:ext cx="751860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8" name="Line 4"/>
          <p:cNvSpPr/>
          <p:nvPr/>
        </p:nvSpPr>
        <p:spPr>
          <a:xfrm>
            <a:off x="851040" y="5931000"/>
            <a:ext cx="1440" cy="968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759960" y="6027840"/>
            <a:ext cx="29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0,90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0" name="Line 6"/>
          <p:cNvSpPr/>
          <p:nvPr/>
        </p:nvSpPr>
        <p:spPr>
          <a:xfrm>
            <a:off x="1231920" y="5931000"/>
            <a:ext cx="1440" cy="601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1" name="Line 7"/>
          <p:cNvSpPr/>
          <p:nvPr/>
        </p:nvSpPr>
        <p:spPr>
          <a:xfrm>
            <a:off x="1600200" y="5931000"/>
            <a:ext cx="1440" cy="601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2" name="Line 8"/>
          <p:cNvSpPr/>
          <p:nvPr/>
        </p:nvSpPr>
        <p:spPr>
          <a:xfrm>
            <a:off x="1981080" y="5931000"/>
            <a:ext cx="1800" cy="601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3" name="Line 9"/>
          <p:cNvSpPr/>
          <p:nvPr/>
        </p:nvSpPr>
        <p:spPr>
          <a:xfrm>
            <a:off x="2349360" y="5931000"/>
            <a:ext cx="1800" cy="601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4" name="Line 10"/>
          <p:cNvSpPr/>
          <p:nvPr/>
        </p:nvSpPr>
        <p:spPr>
          <a:xfrm>
            <a:off x="2730600" y="5931000"/>
            <a:ext cx="1440" cy="968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5" name="Rectangle 11"/>
          <p:cNvSpPr/>
          <p:nvPr/>
        </p:nvSpPr>
        <p:spPr>
          <a:xfrm>
            <a:off x="2639520" y="6027840"/>
            <a:ext cx="29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0,93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6" name="Line 12"/>
          <p:cNvSpPr/>
          <p:nvPr/>
        </p:nvSpPr>
        <p:spPr>
          <a:xfrm>
            <a:off x="3098880" y="5931000"/>
            <a:ext cx="1440" cy="601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7" name="Line 13"/>
          <p:cNvSpPr/>
          <p:nvPr/>
        </p:nvSpPr>
        <p:spPr>
          <a:xfrm>
            <a:off x="3479760" y="5931000"/>
            <a:ext cx="1800" cy="601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8" name="Line 14"/>
          <p:cNvSpPr/>
          <p:nvPr/>
        </p:nvSpPr>
        <p:spPr>
          <a:xfrm>
            <a:off x="3848040" y="5931000"/>
            <a:ext cx="1800" cy="601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9" name="Line 15"/>
          <p:cNvSpPr/>
          <p:nvPr/>
        </p:nvSpPr>
        <p:spPr>
          <a:xfrm>
            <a:off x="4229280" y="5931000"/>
            <a:ext cx="1440" cy="601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0" name="Line 16"/>
          <p:cNvSpPr/>
          <p:nvPr/>
        </p:nvSpPr>
        <p:spPr>
          <a:xfrm>
            <a:off x="4597560" y="5931000"/>
            <a:ext cx="1440" cy="968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1" name="Rectangle 17"/>
          <p:cNvSpPr/>
          <p:nvPr/>
        </p:nvSpPr>
        <p:spPr>
          <a:xfrm>
            <a:off x="4506480" y="6027840"/>
            <a:ext cx="29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0,95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2" name="Line 18"/>
          <p:cNvSpPr/>
          <p:nvPr/>
        </p:nvSpPr>
        <p:spPr>
          <a:xfrm>
            <a:off x="4978440" y="5931000"/>
            <a:ext cx="1440" cy="601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3" name="Line 19"/>
          <p:cNvSpPr/>
          <p:nvPr/>
        </p:nvSpPr>
        <p:spPr>
          <a:xfrm>
            <a:off x="5359320" y="5931000"/>
            <a:ext cx="1800" cy="601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4" name="Line 20"/>
          <p:cNvSpPr/>
          <p:nvPr/>
        </p:nvSpPr>
        <p:spPr>
          <a:xfrm>
            <a:off x="5727600" y="5931000"/>
            <a:ext cx="1800" cy="601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5" name="Line 21"/>
          <p:cNvSpPr/>
          <p:nvPr/>
        </p:nvSpPr>
        <p:spPr>
          <a:xfrm>
            <a:off x="6108840" y="5931000"/>
            <a:ext cx="1440" cy="601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6" name="Line 22"/>
          <p:cNvSpPr/>
          <p:nvPr/>
        </p:nvSpPr>
        <p:spPr>
          <a:xfrm>
            <a:off x="6477120" y="5931000"/>
            <a:ext cx="1440" cy="968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7" name="Rectangle 23"/>
          <p:cNvSpPr/>
          <p:nvPr/>
        </p:nvSpPr>
        <p:spPr>
          <a:xfrm>
            <a:off x="6386040" y="6027840"/>
            <a:ext cx="29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0,98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8" name="Line 24"/>
          <p:cNvSpPr/>
          <p:nvPr/>
        </p:nvSpPr>
        <p:spPr>
          <a:xfrm>
            <a:off x="6858000" y="5931000"/>
            <a:ext cx="1440" cy="601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9" name="Line 25"/>
          <p:cNvSpPr/>
          <p:nvPr/>
        </p:nvSpPr>
        <p:spPr>
          <a:xfrm>
            <a:off x="7226280" y="5931000"/>
            <a:ext cx="1440" cy="601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0" name="Line 26"/>
          <p:cNvSpPr/>
          <p:nvPr/>
        </p:nvSpPr>
        <p:spPr>
          <a:xfrm>
            <a:off x="7607160" y="5931000"/>
            <a:ext cx="1800" cy="601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1" name="Line 27"/>
          <p:cNvSpPr/>
          <p:nvPr/>
        </p:nvSpPr>
        <p:spPr>
          <a:xfrm>
            <a:off x="7975440" y="5931000"/>
            <a:ext cx="1800" cy="601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2" name="Line 28"/>
          <p:cNvSpPr/>
          <p:nvPr/>
        </p:nvSpPr>
        <p:spPr>
          <a:xfrm>
            <a:off x="8356680" y="5931000"/>
            <a:ext cx="1440" cy="968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3" name="Rectangle 29"/>
          <p:cNvSpPr/>
          <p:nvPr/>
        </p:nvSpPr>
        <p:spPr>
          <a:xfrm>
            <a:off x="8265600" y="6027840"/>
            <a:ext cx="29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1,00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4" name="Rectangle 30"/>
          <p:cNvSpPr/>
          <p:nvPr/>
        </p:nvSpPr>
        <p:spPr>
          <a:xfrm>
            <a:off x="71640" y="3111480"/>
            <a:ext cx="610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19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5" name="Line 31"/>
          <p:cNvSpPr/>
          <p:nvPr/>
        </p:nvSpPr>
        <p:spPr>
          <a:xfrm>
            <a:off x="838080" y="519120"/>
            <a:ext cx="1800" cy="53658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6" name="Rectangle 32"/>
          <p:cNvSpPr/>
          <p:nvPr/>
        </p:nvSpPr>
        <p:spPr>
          <a:xfrm>
            <a:off x="8455680" y="517680"/>
            <a:ext cx="1501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Sa1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7" name="Rectangle 33"/>
          <p:cNvSpPr/>
          <p:nvPr/>
        </p:nvSpPr>
        <p:spPr>
          <a:xfrm>
            <a:off x="8455680" y="566640"/>
            <a:ext cx="1501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Sa2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8" name="Rectangle 34"/>
          <p:cNvSpPr/>
          <p:nvPr/>
        </p:nvSpPr>
        <p:spPr>
          <a:xfrm>
            <a:off x="8455680" y="614520"/>
            <a:ext cx="1850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Sa10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9" name="Rectangle 35"/>
          <p:cNvSpPr/>
          <p:nvPr/>
        </p:nvSpPr>
        <p:spPr>
          <a:xfrm>
            <a:off x="8455680" y="674640"/>
            <a:ext cx="163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Pi63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0" name="Rectangle 36"/>
          <p:cNvSpPr/>
          <p:nvPr/>
        </p:nvSpPr>
        <p:spPr>
          <a:xfrm>
            <a:off x="8455680" y="722160"/>
            <a:ext cx="1850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Sa13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8455680" y="770040"/>
            <a:ext cx="1850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Sa18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2" name="Rectangle 38"/>
          <p:cNvSpPr/>
          <p:nvPr/>
        </p:nvSpPr>
        <p:spPr>
          <a:xfrm>
            <a:off x="8455680" y="819000"/>
            <a:ext cx="163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Pi72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3" name="Rectangle 39"/>
          <p:cNvSpPr/>
          <p:nvPr/>
        </p:nvSpPr>
        <p:spPr>
          <a:xfrm>
            <a:off x="8455680" y="866880"/>
            <a:ext cx="163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Pi98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4" name="Rectangle 40"/>
          <p:cNvSpPr/>
          <p:nvPr/>
        </p:nvSpPr>
        <p:spPr>
          <a:xfrm>
            <a:off x="8455680" y="915840"/>
            <a:ext cx="163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Pi64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5" name="Rectangle 41"/>
          <p:cNvSpPr/>
          <p:nvPr/>
        </p:nvSpPr>
        <p:spPr>
          <a:xfrm>
            <a:off x="8454600" y="963720"/>
            <a:ext cx="2142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ffcc00"/>
                </a:solidFill>
                <a:latin typeface="Arial"/>
              </a:rPr>
              <a:t>Or104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6" name="Rectangle 42"/>
          <p:cNvSpPr/>
          <p:nvPr/>
        </p:nvSpPr>
        <p:spPr>
          <a:xfrm>
            <a:off x="8454600" y="1014480"/>
            <a:ext cx="2142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ffcc00"/>
                </a:solidFill>
                <a:latin typeface="Arial"/>
              </a:rPr>
              <a:t>Or108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7" name="Rectangle 43"/>
          <p:cNvSpPr/>
          <p:nvPr/>
        </p:nvSpPr>
        <p:spPr>
          <a:xfrm>
            <a:off x="8454600" y="1062000"/>
            <a:ext cx="2142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ffcc00"/>
                </a:solidFill>
                <a:latin typeface="Arial"/>
              </a:rPr>
              <a:t>Or107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8" name="Rectangle 44"/>
          <p:cNvSpPr/>
          <p:nvPr/>
        </p:nvSpPr>
        <p:spPr>
          <a:xfrm>
            <a:off x="8454600" y="1109520"/>
            <a:ext cx="2142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ffcc00"/>
                </a:solidFill>
                <a:latin typeface="Arial"/>
              </a:rPr>
              <a:t>Or106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9" name="Rectangle 45"/>
          <p:cNvSpPr/>
          <p:nvPr/>
        </p:nvSpPr>
        <p:spPr>
          <a:xfrm>
            <a:off x="8455680" y="1168560"/>
            <a:ext cx="163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cccccc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Pi62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0" name="Rectangle 46"/>
          <p:cNvSpPr/>
          <p:nvPr/>
        </p:nvSpPr>
        <p:spPr>
          <a:xfrm>
            <a:off x="8455680" y="1227240"/>
            <a:ext cx="1501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Sa6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1" name="Rectangle 47"/>
          <p:cNvSpPr/>
          <p:nvPr/>
        </p:nvSpPr>
        <p:spPr>
          <a:xfrm>
            <a:off x="8455680" y="1274760"/>
            <a:ext cx="1850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Sa35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2" name="Rectangle 48"/>
          <p:cNvSpPr/>
          <p:nvPr/>
        </p:nvSpPr>
        <p:spPr>
          <a:xfrm>
            <a:off x="8455680" y="1324080"/>
            <a:ext cx="1850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Sa38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3" name="Rectangle 49"/>
          <p:cNvSpPr/>
          <p:nvPr/>
        </p:nvSpPr>
        <p:spPr>
          <a:xfrm>
            <a:off x="8455680" y="1366920"/>
            <a:ext cx="1850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Sa42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4" name="Rectangle 50"/>
          <p:cNvSpPr/>
          <p:nvPr/>
        </p:nvSpPr>
        <p:spPr>
          <a:xfrm>
            <a:off x="8455680" y="1415880"/>
            <a:ext cx="163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Pi53</a:t>
            </a:r>
            <a:r>
              <a:rPr b="0" lang="es-ES_tradnl" sz="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5" name="Rectangle 51"/>
          <p:cNvSpPr/>
          <p:nvPr/>
        </p:nvSpPr>
        <p:spPr>
          <a:xfrm>
            <a:off x="8455320" y="1469880"/>
            <a:ext cx="1854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cccccc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Sa21</a:t>
            </a:r>
            <a:r>
              <a:rPr b="0" lang="es-ES_tradnl" sz="500" spc="-1" strike="noStrike">
                <a:solidFill>
                  <a:srgbClr val="cccccc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6" name="Rectangle 52"/>
          <p:cNvSpPr/>
          <p:nvPr/>
        </p:nvSpPr>
        <p:spPr>
          <a:xfrm>
            <a:off x="8455680" y="1519200"/>
            <a:ext cx="1990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Pi103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7" name="Rectangle 53"/>
          <p:cNvSpPr/>
          <p:nvPr/>
        </p:nvSpPr>
        <p:spPr>
          <a:xfrm>
            <a:off x="8455680" y="1566720"/>
            <a:ext cx="163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Pi99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8" name="Rectangle 54"/>
          <p:cNvSpPr/>
          <p:nvPr/>
        </p:nvSpPr>
        <p:spPr>
          <a:xfrm>
            <a:off x="8455680" y="1616040"/>
            <a:ext cx="163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Pi96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9" name="Rectangle 55"/>
          <p:cNvSpPr/>
          <p:nvPr/>
        </p:nvSpPr>
        <p:spPr>
          <a:xfrm>
            <a:off x="8455680" y="1717560"/>
            <a:ext cx="1850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Sa22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0" name="Rectangle 56"/>
          <p:cNvSpPr/>
          <p:nvPr/>
        </p:nvSpPr>
        <p:spPr>
          <a:xfrm>
            <a:off x="8455680" y="1766880"/>
            <a:ext cx="1850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Sa31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1" name="Rectangle 57"/>
          <p:cNvSpPr/>
          <p:nvPr/>
        </p:nvSpPr>
        <p:spPr>
          <a:xfrm>
            <a:off x="8455680" y="1814400"/>
            <a:ext cx="1850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Sa45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2" name="Rectangle 58"/>
          <p:cNvSpPr/>
          <p:nvPr/>
        </p:nvSpPr>
        <p:spPr>
          <a:xfrm>
            <a:off x="8455680" y="1862280"/>
            <a:ext cx="1850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Sa48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3" name="Rectangle 59"/>
          <p:cNvSpPr/>
          <p:nvPr/>
        </p:nvSpPr>
        <p:spPr>
          <a:xfrm>
            <a:off x="8455680" y="1920960"/>
            <a:ext cx="1850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Sa14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4" name="Rectangle 60"/>
          <p:cNvSpPr/>
          <p:nvPr/>
        </p:nvSpPr>
        <p:spPr>
          <a:xfrm>
            <a:off x="8455680" y="1968480"/>
            <a:ext cx="1850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Sa43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5" name="Rectangle 61"/>
          <p:cNvSpPr/>
          <p:nvPr/>
        </p:nvSpPr>
        <p:spPr>
          <a:xfrm>
            <a:off x="8455680" y="2019240"/>
            <a:ext cx="163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Pi77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6" name="Rectangle 62"/>
          <p:cNvSpPr/>
          <p:nvPr/>
        </p:nvSpPr>
        <p:spPr>
          <a:xfrm>
            <a:off x="8455680" y="2076480"/>
            <a:ext cx="1850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Sa28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7" name="Rectangle 63"/>
          <p:cNvSpPr/>
          <p:nvPr/>
        </p:nvSpPr>
        <p:spPr>
          <a:xfrm>
            <a:off x="8455680" y="2125800"/>
            <a:ext cx="163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Pi79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8" name="Rectangle 64"/>
          <p:cNvSpPr/>
          <p:nvPr/>
        </p:nvSpPr>
        <p:spPr>
          <a:xfrm>
            <a:off x="8455680" y="2173320"/>
            <a:ext cx="163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Pi89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9" name="Rectangle 65"/>
          <p:cNvSpPr/>
          <p:nvPr/>
        </p:nvSpPr>
        <p:spPr>
          <a:xfrm>
            <a:off x="8455680" y="2222640"/>
            <a:ext cx="163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Pi95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0" name="Rectangle 66"/>
          <p:cNvSpPr/>
          <p:nvPr/>
        </p:nvSpPr>
        <p:spPr>
          <a:xfrm>
            <a:off x="8455680" y="2270160"/>
            <a:ext cx="1990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Pi102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1" name="Rectangle 67"/>
          <p:cNvSpPr/>
          <p:nvPr/>
        </p:nvSpPr>
        <p:spPr>
          <a:xfrm>
            <a:off x="8455680" y="2319480"/>
            <a:ext cx="163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Pi66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2" name="Rectangle 68"/>
          <p:cNvSpPr/>
          <p:nvPr/>
        </p:nvSpPr>
        <p:spPr>
          <a:xfrm>
            <a:off x="8455680" y="2382840"/>
            <a:ext cx="163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Pi71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3" name="Rectangle 69"/>
          <p:cNvSpPr/>
          <p:nvPr/>
        </p:nvSpPr>
        <p:spPr>
          <a:xfrm>
            <a:off x="8455680" y="2430360"/>
            <a:ext cx="163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Pi73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4" name="Rectangle 70"/>
          <p:cNvSpPr/>
          <p:nvPr/>
        </p:nvSpPr>
        <p:spPr>
          <a:xfrm>
            <a:off x="8455680" y="2482920"/>
            <a:ext cx="163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Pi94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5" name="Rectangle 71"/>
          <p:cNvSpPr/>
          <p:nvPr/>
        </p:nvSpPr>
        <p:spPr>
          <a:xfrm>
            <a:off x="8455680" y="2527200"/>
            <a:ext cx="1501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Sa8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6" name="Rectangle 72"/>
          <p:cNvSpPr/>
          <p:nvPr/>
        </p:nvSpPr>
        <p:spPr>
          <a:xfrm>
            <a:off x="8455680" y="2575080"/>
            <a:ext cx="163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Pi68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7" name="Rectangle 73"/>
          <p:cNvSpPr/>
          <p:nvPr/>
        </p:nvSpPr>
        <p:spPr>
          <a:xfrm>
            <a:off x="8455680" y="2624040"/>
            <a:ext cx="163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Pi61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8" name="Rectangle 74"/>
          <p:cNvSpPr/>
          <p:nvPr/>
        </p:nvSpPr>
        <p:spPr>
          <a:xfrm>
            <a:off x="8455680" y="2684520"/>
            <a:ext cx="163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Pi84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9" name="Rectangle 75"/>
          <p:cNvSpPr/>
          <p:nvPr/>
        </p:nvSpPr>
        <p:spPr>
          <a:xfrm>
            <a:off x="8455680" y="2732040"/>
            <a:ext cx="163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Pi65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0" name="Rectangle 76"/>
          <p:cNvSpPr/>
          <p:nvPr/>
        </p:nvSpPr>
        <p:spPr>
          <a:xfrm>
            <a:off x="8455680" y="2781360"/>
            <a:ext cx="163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Pi67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1" name="Rectangle 77"/>
          <p:cNvSpPr/>
          <p:nvPr/>
        </p:nvSpPr>
        <p:spPr>
          <a:xfrm>
            <a:off x="8455680" y="2827440"/>
            <a:ext cx="163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Pi82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2" name="Rectangle 78"/>
          <p:cNvSpPr/>
          <p:nvPr/>
        </p:nvSpPr>
        <p:spPr>
          <a:xfrm>
            <a:off x="8455680" y="2876400"/>
            <a:ext cx="163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Pi90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3" name="Rectangle 79"/>
          <p:cNvSpPr/>
          <p:nvPr/>
        </p:nvSpPr>
        <p:spPr>
          <a:xfrm>
            <a:off x="8455680" y="2924280"/>
            <a:ext cx="1990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Pi101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4" name="Rectangle 80"/>
          <p:cNvSpPr/>
          <p:nvPr/>
        </p:nvSpPr>
        <p:spPr>
          <a:xfrm>
            <a:off x="8455680" y="2973240"/>
            <a:ext cx="1990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Pi100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5" name="Rectangle 81"/>
          <p:cNvSpPr/>
          <p:nvPr/>
        </p:nvSpPr>
        <p:spPr>
          <a:xfrm>
            <a:off x="8455680" y="3027240"/>
            <a:ext cx="163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Pi91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6" name="Rectangle 82"/>
          <p:cNvSpPr/>
          <p:nvPr/>
        </p:nvSpPr>
        <p:spPr>
          <a:xfrm>
            <a:off x="8455680" y="3071880"/>
            <a:ext cx="1501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Sa5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7" name="Rectangle 83"/>
          <p:cNvSpPr/>
          <p:nvPr/>
        </p:nvSpPr>
        <p:spPr>
          <a:xfrm>
            <a:off x="8455680" y="3119400"/>
            <a:ext cx="1501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Sa7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8" name="Rectangle 84"/>
          <p:cNvSpPr/>
          <p:nvPr/>
        </p:nvSpPr>
        <p:spPr>
          <a:xfrm>
            <a:off x="8455680" y="3171960"/>
            <a:ext cx="1850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Sa16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9" name="Rectangle 85"/>
          <p:cNvSpPr/>
          <p:nvPr/>
        </p:nvSpPr>
        <p:spPr>
          <a:xfrm>
            <a:off x="8455680" y="3219480"/>
            <a:ext cx="1850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Sa32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0" name="Rectangle 86"/>
          <p:cNvSpPr/>
          <p:nvPr/>
        </p:nvSpPr>
        <p:spPr>
          <a:xfrm>
            <a:off x="8455680" y="3267000"/>
            <a:ext cx="1850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Sa19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1" name="Rectangle 87"/>
          <p:cNvSpPr/>
          <p:nvPr/>
        </p:nvSpPr>
        <p:spPr>
          <a:xfrm>
            <a:off x="8455680" y="3316320"/>
            <a:ext cx="1850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Sa12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2" name="Rectangle 88"/>
          <p:cNvSpPr/>
          <p:nvPr/>
        </p:nvSpPr>
        <p:spPr>
          <a:xfrm>
            <a:off x="8455680" y="3367080"/>
            <a:ext cx="1850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Sa47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3" name="Rectangle 89"/>
          <p:cNvSpPr/>
          <p:nvPr/>
        </p:nvSpPr>
        <p:spPr>
          <a:xfrm>
            <a:off x="8455680" y="3421080"/>
            <a:ext cx="1850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Sa36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4" name="Rectangle 90"/>
          <p:cNvSpPr/>
          <p:nvPr/>
        </p:nvSpPr>
        <p:spPr>
          <a:xfrm>
            <a:off x="8455680" y="3470400"/>
            <a:ext cx="1501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Sa9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5" name="Rectangle 91"/>
          <p:cNvSpPr/>
          <p:nvPr/>
        </p:nvSpPr>
        <p:spPr>
          <a:xfrm>
            <a:off x="8455680" y="3517920"/>
            <a:ext cx="1850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Sa34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6" name="Rectangle 92"/>
          <p:cNvSpPr/>
          <p:nvPr/>
        </p:nvSpPr>
        <p:spPr>
          <a:xfrm>
            <a:off x="8455680" y="3613320"/>
            <a:ext cx="163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Pi57</a:t>
            </a:r>
            <a:r>
              <a:rPr b="0" lang="es-ES_tradnl" sz="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7" name="Rectangle 93"/>
          <p:cNvSpPr/>
          <p:nvPr/>
        </p:nvSpPr>
        <p:spPr>
          <a:xfrm>
            <a:off x="8455680" y="3670200"/>
            <a:ext cx="1501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Sa4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8" name="Rectangle 94"/>
          <p:cNvSpPr/>
          <p:nvPr/>
        </p:nvSpPr>
        <p:spPr>
          <a:xfrm>
            <a:off x="8455680" y="3714840"/>
            <a:ext cx="1850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Sa15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9" name="Rectangle 95"/>
          <p:cNvSpPr/>
          <p:nvPr/>
        </p:nvSpPr>
        <p:spPr>
          <a:xfrm>
            <a:off x="8455680" y="3762360"/>
            <a:ext cx="1850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Sa30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0" name="Rectangle 96"/>
          <p:cNvSpPr/>
          <p:nvPr/>
        </p:nvSpPr>
        <p:spPr>
          <a:xfrm>
            <a:off x="8455680" y="3811680"/>
            <a:ext cx="1850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Sa33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1" name="Rectangle 97"/>
          <p:cNvSpPr/>
          <p:nvPr/>
        </p:nvSpPr>
        <p:spPr>
          <a:xfrm>
            <a:off x="8455680" y="3870360"/>
            <a:ext cx="163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Pi58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2" name="Rectangle 98"/>
          <p:cNvSpPr/>
          <p:nvPr/>
        </p:nvSpPr>
        <p:spPr>
          <a:xfrm>
            <a:off x="8455680" y="3917880"/>
            <a:ext cx="163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Pi74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3" name="Rectangle 99"/>
          <p:cNvSpPr/>
          <p:nvPr/>
        </p:nvSpPr>
        <p:spPr>
          <a:xfrm>
            <a:off x="8455680" y="3967200"/>
            <a:ext cx="163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Pi87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4" name="Rectangle 100"/>
          <p:cNvSpPr/>
          <p:nvPr/>
        </p:nvSpPr>
        <p:spPr>
          <a:xfrm>
            <a:off x="8455680" y="4027320"/>
            <a:ext cx="163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Pi76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5" name="Rectangle 101"/>
          <p:cNvSpPr/>
          <p:nvPr/>
        </p:nvSpPr>
        <p:spPr>
          <a:xfrm>
            <a:off x="8455680" y="4073400"/>
            <a:ext cx="163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Pi88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6" name="Rectangle 102"/>
          <p:cNvSpPr/>
          <p:nvPr/>
        </p:nvSpPr>
        <p:spPr>
          <a:xfrm>
            <a:off x="8455680" y="4122720"/>
            <a:ext cx="163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Pi78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7" name="Rectangle 103"/>
          <p:cNvSpPr/>
          <p:nvPr/>
        </p:nvSpPr>
        <p:spPr>
          <a:xfrm>
            <a:off x="8455680" y="4170240"/>
            <a:ext cx="163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Pi80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8" name="Rectangle 104"/>
          <p:cNvSpPr/>
          <p:nvPr/>
        </p:nvSpPr>
        <p:spPr>
          <a:xfrm>
            <a:off x="8455680" y="4219560"/>
            <a:ext cx="163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Pi85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9" name="Rectangle 105"/>
          <p:cNvSpPr/>
          <p:nvPr/>
        </p:nvSpPr>
        <p:spPr>
          <a:xfrm>
            <a:off x="8455680" y="4267080"/>
            <a:ext cx="163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Pi75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40" name="Rectangle 106"/>
          <p:cNvSpPr/>
          <p:nvPr/>
        </p:nvSpPr>
        <p:spPr>
          <a:xfrm>
            <a:off x="8455680" y="4316400"/>
            <a:ext cx="163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Pi81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41" name="Rectangle 107"/>
          <p:cNvSpPr/>
          <p:nvPr/>
        </p:nvSpPr>
        <p:spPr>
          <a:xfrm>
            <a:off x="8455680" y="4373640"/>
            <a:ext cx="1501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Sa3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42" name="Rectangle 108"/>
          <p:cNvSpPr/>
          <p:nvPr/>
        </p:nvSpPr>
        <p:spPr>
          <a:xfrm>
            <a:off x="8455680" y="4421160"/>
            <a:ext cx="1850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Sa20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43" name="Rectangle 109"/>
          <p:cNvSpPr/>
          <p:nvPr/>
        </p:nvSpPr>
        <p:spPr>
          <a:xfrm>
            <a:off x="8455680" y="4470480"/>
            <a:ext cx="1850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Sa41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44" name="Rectangle 110"/>
          <p:cNvSpPr/>
          <p:nvPr/>
        </p:nvSpPr>
        <p:spPr>
          <a:xfrm>
            <a:off x="8455680" y="4516560"/>
            <a:ext cx="1850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Sa17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45" name="Rectangle 111"/>
          <p:cNvSpPr/>
          <p:nvPr/>
        </p:nvSpPr>
        <p:spPr>
          <a:xfrm>
            <a:off x="8455680" y="4565520"/>
            <a:ext cx="1850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Sa49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46" name="Rectangle 112"/>
          <p:cNvSpPr/>
          <p:nvPr/>
        </p:nvSpPr>
        <p:spPr>
          <a:xfrm>
            <a:off x="8455680" y="4613400"/>
            <a:ext cx="1850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Sa23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47" name="Rectangle 113"/>
          <p:cNvSpPr/>
          <p:nvPr/>
        </p:nvSpPr>
        <p:spPr>
          <a:xfrm>
            <a:off x="8455680" y="4662360"/>
            <a:ext cx="1850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Sa40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48" name="Rectangle 114"/>
          <p:cNvSpPr/>
          <p:nvPr/>
        </p:nvSpPr>
        <p:spPr>
          <a:xfrm>
            <a:off x="8455680" y="4722840"/>
            <a:ext cx="1850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Sa46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49" name="Rectangle 115"/>
          <p:cNvSpPr/>
          <p:nvPr/>
        </p:nvSpPr>
        <p:spPr>
          <a:xfrm>
            <a:off x="8455680" y="4773600"/>
            <a:ext cx="1850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Sa50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50" name="Rectangle 116"/>
          <p:cNvSpPr/>
          <p:nvPr/>
        </p:nvSpPr>
        <p:spPr>
          <a:xfrm>
            <a:off x="8455680" y="4822920"/>
            <a:ext cx="1850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Sa25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51" name="Rectangle 117"/>
          <p:cNvSpPr/>
          <p:nvPr/>
        </p:nvSpPr>
        <p:spPr>
          <a:xfrm>
            <a:off x="8455680" y="4870440"/>
            <a:ext cx="1850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Sa11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52" name="Rectangle 118"/>
          <p:cNvSpPr/>
          <p:nvPr/>
        </p:nvSpPr>
        <p:spPr>
          <a:xfrm>
            <a:off x="8455320" y="4917960"/>
            <a:ext cx="1854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cccccc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Sa39</a:t>
            </a:r>
            <a:r>
              <a:rPr b="0" lang="es-ES_tradnl" sz="500" spc="-1" strike="noStrike">
                <a:solidFill>
                  <a:srgbClr val="cccccc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53" name="Rectangle 119"/>
          <p:cNvSpPr/>
          <p:nvPr/>
        </p:nvSpPr>
        <p:spPr>
          <a:xfrm>
            <a:off x="8455680" y="4967280"/>
            <a:ext cx="163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Pi59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54" name="Rectangle 120"/>
          <p:cNvSpPr/>
          <p:nvPr/>
        </p:nvSpPr>
        <p:spPr>
          <a:xfrm>
            <a:off x="8455680" y="5027760"/>
            <a:ext cx="163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Pi56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55" name="Rectangle 121"/>
          <p:cNvSpPr/>
          <p:nvPr/>
        </p:nvSpPr>
        <p:spPr>
          <a:xfrm>
            <a:off x="8455680" y="5075280"/>
            <a:ext cx="163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Pi69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56" name="Rectangle 122"/>
          <p:cNvSpPr/>
          <p:nvPr/>
        </p:nvSpPr>
        <p:spPr>
          <a:xfrm>
            <a:off x="8455320" y="5124600"/>
            <a:ext cx="1425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ffffff"/>
                </a:solidFill>
                <a:latin typeface="Arial"/>
              </a:rPr>
              <a:t>110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57" name="Rectangle 123"/>
          <p:cNvSpPr/>
          <p:nvPr/>
        </p:nvSpPr>
        <p:spPr>
          <a:xfrm>
            <a:off x="8455680" y="5172120"/>
            <a:ext cx="163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Pi70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58" name="Rectangle 124"/>
          <p:cNvSpPr/>
          <p:nvPr/>
        </p:nvSpPr>
        <p:spPr>
          <a:xfrm>
            <a:off x="8455680" y="5219640"/>
            <a:ext cx="163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Pi83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59" name="Rectangle 125"/>
          <p:cNvSpPr/>
          <p:nvPr/>
        </p:nvSpPr>
        <p:spPr>
          <a:xfrm>
            <a:off x="8455680" y="5268960"/>
            <a:ext cx="163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Pi93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60" name="Rectangle 126"/>
          <p:cNvSpPr/>
          <p:nvPr/>
        </p:nvSpPr>
        <p:spPr>
          <a:xfrm>
            <a:off x="8455680" y="5316480"/>
            <a:ext cx="1850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Sa24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61" name="Rectangle 127"/>
          <p:cNvSpPr/>
          <p:nvPr/>
        </p:nvSpPr>
        <p:spPr>
          <a:xfrm>
            <a:off x="8455680" y="5376960"/>
            <a:ext cx="1850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Sa44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62" name="Rectangle 128"/>
          <p:cNvSpPr/>
          <p:nvPr/>
        </p:nvSpPr>
        <p:spPr>
          <a:xfrm>
            <a:off x="8455320" y="5424480"/>
            <a:ext cx="1425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ffffff"/>
                </a:solidFill>
                <a:latin typeface="Arial"/>
              </a:rPr>
              <a:t>109</a:t>
            </a:r>
            <a:r>
              <a:rPr b="0" lang="es-ES_tradnl" sz="5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63" name="Rectangle 129"/>
          <p:cNvSpPr/>
          <p:nvPr/>
        </p:nvSpPr>
        <p:spPr>
          <a:xfrm>
            <a:off x="8455680" y="5473800"/>
            <a:ext cx="1850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Sa26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64" name="Rectangle 130"/>
          <p:cNvSpPr/>
          <p:nvPr/>
        </p:nvSpPr>
        <p:spPr>
          <a:xfrm>
            <a:off x="8455680" y="5521320"/>
            <a:ext cx="1850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Sa27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65" name="Rectangle 131"/>
          <p:cNvSpPr/>
          <p:nvPr/>
        </p:nvSpPr>
        <p:spPr>
          <a:xfrm>
            <a:off x="8455680" y="5570640"/>
            <a:ext cx="1850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Sa37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66" name="Rectangle 132"/>
          <p:cNvSpPr/>
          <p:nvPr/>
        </p:nvSpPr>
        <p:spPr>
          <a:xfrm>
            <a:off x="8455680" y="5618160"/>
            <a:ext cx="163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Pi92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67" name="Rectangle 133"/>
          <p:cNvSpPr/>
          <p:nvPr/>
        </p:nvSpPr>
        <p:spPr>
          <a:xfrm>
            <a:off x="8455680" y="5667480"/>
            <a:ext cx="163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Pi86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68" name="Rectangle 134"/>
          <p:cNvSpPr/>
          <p:nvPr/>
        </p:nvSpPr>
        <p:spPr>
          <a:xfrm>
            <a:off x="8455680" y="5727600"/>
            <a:ext cx="163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Pi54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69" name="Rectangle 135"/>
          <p:cNvSpPr/>
          <p:nvPr/>
        </p:nvSpPr>
        <p:spPr>
          <a:xfrm>
            <a:off x="8455680" y="5773680"/>
            <a:ext cx="163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00ffcc"/>
                </a:solidFill>
                <a:latin typeface="Arial"/>
              </a:rPr>
              <a:t>Pi55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70" name="Rectangle 136"/>
          <p:cNvSpPr/>
          <p:nvPr/>
        </p:nvSpPr>
        <p:spPr>
          <a:xfrm>
            <a:off x="8454600" y="5823000"/>
            <a:ext cx="2142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_tradnl" sz="500" spc="-1" strike="noStrike">
                <a:solidFill>
                  <a:srgbClr val="ffcc00"/>
                </a:solidFill>
                <a:latin typeface="Arial"/>
              </a:rPr>
              <a:t>Or105 </a:t>
            </a:r>
            <a:endParaRPr b="0" lang="en-US" sz="5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71" name="Line 137"/>
          <p:cNvSpPr/>
          <p:nvPr/>
        </p:nvSpPr>
        <p:spPr>
          <a:xfrm>
            <a:off x="8356680" y="542880"/>
            <a:ext cx="1440" cy="18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72" name="Line 138"/>
          <p:cNvSpPr/>
          <p:nvPr/>
        </p:nvSpPr>
        <p:spPr>
          <a:xfrm>
            <a:off x="8356680" y="590400"/>
            <a:ext cx="1440" cy="18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73" name="Line 139"/>
          <p:cNvSpPr/>
          <p:nvPr/>
        </p:nvSpPr>
        <p:spPr>
          <a:xfrm>
            <a:off x="8356680" y="638280"/>
            <a:ext cx="144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74" name="Line 140"/>
          <p:cNvSpPr/>
          <p:nvPr/>
        </p:nvSpPr>
        <p:spPr>
          <a:xfrm>
            <a:off x="8356680" y="542880"/>
            <a:ext cx="1440" cy="954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75" name="Line 141"/>
          <p:cNvSpPr/>
          <p:nvPr/>
        </p:nvSpPr>
        <p:spPr>
          <a:xfrm flipH="1">
            <a:off x="7429320" y="590400"/>
            <a:ext cx="927000" cy="18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76" name="Line 142"/>
          <p:cNvSpPr/>
          <p:nvPr/>
        </p:nvSpPr>
        <p:spPr>
          <a:xfrm flipH="1">
            <a:off x="7429320" y="698400"/>
            <a:ext cx="927000" cy="18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77" name="Line 143"/>
          <p:cNvSpPr/>
          <p:nvPr/>
        </p:nvSpPr>
        <p:spPr>
          <a:xfrm>
            <a:off x="7429680" y="590400"/>
            <a:ext cx="1440" cy="1080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78" name="Line 144"/>
          <p:cNvSpPr/>
          <p:nvPr/>
        </p:nvSpPr>
        <p:spPr>
          <a:xfrm>
            <a:off x="8356680" y="747720"/>
            <a:ext cx="144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79" name="Line 145"/>
          <p:cNvSpPr/>
          <p:nvPr/>
        </p:nvSpPr>
        <p:spPr>
          <a:xfrm>
            <a:off x="8356680" y="795240"/>
            <a:ext cx="1440" cy="18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80" name="Line 146"/>
          <p:cNvSpPr/>
          <p:nvPr/>
        </p:nvSpPr>
        <p:spPr>
          <a:xfrm>
            <a:off x="8356680" y="747720"/>
            <a:ext cx="1440" cy="475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81" name="Line 147"/>
          <p:cNvSpPr/>
          <p:nvPr/>
        </p:nvSpPr>
        <p:spPr>
          <a:xfrm>
            <a:off x="8356680" y="844560"/>
            <a:ext cx="144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82" name="Line 148"/>
          <p:cNvSpPr/>
          <p:nvPr/>
        </p:nvSpPr>
        <p:spPr>
          <a:xfrm>
            <a:off x="8356680" y="892080"/>
            <a:ext cx="1440" cy="18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83" name="Line 149"/>
          <p:cNvSpPr/>
          <p:nvPr/>
        </p:nvSpPr>
        <p:spPr>
          <a:xfrm>
            <a:off x="8356680" y="844560"/>
            <a:ext cx="1440" cy="475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84" name="Line 150"/>
          <p:cNvSpPr/>
          <p:nvPr/>
        </p:nvSpPr>
        <p:spPr>
          <a:xfrm flipH="1">
            <a:off x="7454520" y="771480"/>
            <a:ext cx="901800" cy="18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85" name="Line 151"/>
          <p:cNvSpPr/>
          <p:nvPr/>
        </p:nvSpPr>
        <p:spPr>
          <a:xfrm flipH="1">
            <a:off x="7454520" y="868320"/>
            <a:ext cx="901800" cy="18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86" name="Line 152"/>
          <p:cNvSpPr/>
          <p:nvPr/>
        </p:nvSpPr>
        <p:spPr>
          <a:xfrm>
            <a:off x="7454880" y="771480"/>
            <a:ext cx="1440" cy="968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87" name="Line 153"/>
          <p:cNvSpPr/>
          <p:nvPr/>
        </p:nvSpPr>
        <p:spPr>
          <a:xfrm flipH="1">
            <a:off x="6984720" y="638280"/>
            <a:ext cx="44460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88" name="Line 154"/>
          <p:cNvSpPr/>
          <p:nvPr/>
        </p:nvSpPr>
        <p:spPr>
          <a:xfrm flipH="1">
            <a:off x="6984720" y="819000"/>
            <a:ext cx="469800" cy="18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89" name="Line 155"/>
          <p:cNvSpPr/>
          <p:nvPr/>
        </p:nvSpPr>
        <p:spPr>
          <a:xfrm>
            <a:off x="6985080" y="638280"/>
            <a:ext cx="1440" cy="1807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90" name="Line 156"/>
          <p:cNvSpPr/>
          <p:nvPr/>
        </p:nvSpPr>
        <p:spPr>
          <a:xfrm flipH="1">
            <a:off x="6616440" y="731880"/>
            <a:ext cx="36828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91" name="Line 157"/>
          <p:cNvSpPr/>
          <p:nvPr/>
        </p:nvSpPr>
        <p:spPr>
          <a:xfrm flipH="1">
            <a:off x="6616440" y="941400"/>
            <a:ext cx="173988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92" name="Line 158"/>
          <p:cNvSpPr/>
          <p:nvPr/>
        </p:nvSpPr>
        <p:spPr>
          <a:xfrm>
            <a:off x="6616800" y="735120"/>
            <a:ext cx="1440" cy="20628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93" name="Line 159"/>
          <p:cNvSpPr/>
          <p:nvPr/>
        </p:nvSpPr>
        <p:spPr>
          <a:xfrm>
            <a:off x="8356680" y="988920"/>
            <a:ext cx="1440" cy="18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94" name="Line 160"/>
          <p:cNvSpPr/>
          <p:nvPr/>
        </p:nvSpPr>
        <p:spPr>
          <a:xfrm>
            <a:off x="8356680" y="1049400"/>
            <a:ext cx="144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95" name="Line 161"/>
          <p:cNvSpPr/>
          <p:nvPr/>
        </p:nvSpPr>
        <p:spPr>
          <a:xfrm>
            <a:off x="8356680" y="1096920"/>
            <a:ext cx="1440" cy="18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96" name="Line 162"/>
          <p:cNvSpPr/>
          <p:nvPr/>
        </p:nvSpPr>
        <p:spPr>
          <a:xfrm>
            <a:off x="8356680" y="1144440"/>
            <a:ext cx="1440" cy="18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97" name="Line 163"/>
          <p:cNvSpPr/>
          <p:nvPr/>
        </p:nvSpPr>
        <p:spPr>
          <a:xfrm>
            <a:off x="8356680" y="988920"/>
            <a:ext cx="1440" cy="1555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98" name="Line 164"/>
          <p:cNvSpPr/>
          <p:nvPr/>
        </p:nvSpPr>
        <p:spPr>
          <a:xfrm flipH="1">
            <a:off x="6603840" y="831960"/>
            <a:ext cx="1296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99" name="Line 165"/>
          <p:cNvSpPr/>
          <p:nvPr/>
        </p:nvSpPr>
        <p:spPr>
          <a:xfrm flipH="1">
            <a:off x="6603480" y="1073160"/>
            <a:ext cx="175284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00" name="Line 166"/>
          <p:cNvSpPr/>
          <p:nvPr/>
        </p:nvSpPr>
        <p:spPr>
          <a:xfrm>
            <a:off x="6603840" y="831960"/>
            <a:ext cx="1800" cy="2412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01" name="Line 167"/>
          <p:cNvSpPr/>
          <p:nvPr/>
        </p:nvSpPr>
        <p:spPr>
          <a:xfrm flipH="1">
            <a:off x="5727600" y="949320"/>
            <a:ext cx="87624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02" name="Line 168"/>
          <p:cNvSpPr/>
          <p:nvPr/>
        </p:nvSpPr>
        <p:spPr>
          <a:xfrm flipH="1">
            <a:off x="5727240" y="1193760"/>
            <a:ext cx="2629080" cy="18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03" name="Line 169"/>
          <p:cNvSpPr/>
          <p:nvPr/>
        </p:nvSpPr>
        <p:spPr>
          <a:xfrm>
            <a:off x="5727600" y="952560"/>
            <a:ext cx="1800" cy="2412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04" name="Line 170"/>
          <p:cNvSpPr/>
          <p:nvPr/>
        </p:nvSpPr>
        <p:spPr>
          <a:xfrm>
            <a:off x="8356680" y="1241280"/>
            <a:ext cx="1440" cy="18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05" name="Line 171"/>
          <p:cNvSpPr/>
          <p:nvPr/>
        </p:nvSpPr>
        <p:spPr>
          <a:xfrm>
            <a:off x="8356680" y="1290600"/>
            <a:ext cx="144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06" name="Line 172"/>
          <p:cNvSpPr/>
          <p:nvPr/>
        </p:nvSpPr>
        <p:spPr>
          <a:xfrm>
            <a:off x="8356680" y="1338120"/>
            <a:ext cx="1440" cy="18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07" name="Line 173"/>
          <p:cNvSpPr/>
          <p:nvPr/>
        </p:nvSpPr>
        <p:spPr>
          <a:xfrm>
            <a:off x="8356680" y="1398600"/>
            <a:ext cx="144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08" name="Line 174"/>
          <p:cNvSpPr/>
          <p:nvPr/>
        </p:nvSpPr>
        <p:spPr>
          <a:xfrm>
            <a:off x="8356680" y="1447920"/>
            <a:ext cx="144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09" name="Line 175"/>
          <p:cNvSpPr/>
          <p:nvPr/>
        </p:nvSpPr>
        <p:spPr>
          <a:xfrm>
            <a:off x="8356680" y="1241280"/>
            <a:ext cx="1440" cy="2066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10" name="Line 176"/>
          <p:cNvSpPr/>
          <p:nvPr/>
        </p:nvSpPr>
        <p:spPr>
          <a:xfrm>
            <a:off x="8356680" y="1495440"/>
            <a:ext cx="144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11" name="Line 177"/>
          <p:cNvSpPr/>
          <p:nvPr/>
        </p:nvSpPr>
        <p:spPr>
          <a:xfrm>
            <a:off x="8356680" y="1542960"/>
            <a:ext cx="1440" cy="18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12" name="Line 178"/>
          <p:cNvSpPr/>
          <p:nvPr/>
        </p:nvSpPr>
        <p:spPr>
          <a:xfrm>
            <a:off x="8356680" y="1495440"/>
            <a:ext cx="1440" cy="3985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13" name="Line 179"/>
          <p:cNvSpPr/>
          <p:nvPr/>
        </p:nvSpPr>
        <p:spPr>
          <a:xfrm flipH="1">
            <a:off x="7404120" y="1338120"/>
            <a:ext cx="952560" cy="18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14" name="Line 180"/>
          <p:cNvSpPr/>
          <p:nvPr/>
        </p:nvSpPr>
        <p:spPr>
          <a:xfrm flipH="1">
            <a:off x="7404120" y="1700280"/>
            <a:ext cx="95256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15" name="Line 181"/>
          <p:cNvSpPr/>
          <p:nvPr/>
        </p:nvSpPr>
        <p:spPr>
          <a:xfrm>
            <a:off x="7404120" y="1338120"/>
            <a:ext cx="1440" cy="36216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16" name="Line 182"/>
          <p:cNvSpPr/>
          <p:nvPr/>
        </p:nvSpPr>
        <p:spPr>
          <a:xfrm>
            <a:off x="8356680" y="1941480"/>
            <a:ext cx="1440" cy="1080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17" name="Line 183"/>
          <p:cNvSpPr/>
          <p:nvPr/>
        </p:nvSpPr>
        <p:spPr>
          <a:xfrm>
            <a:off x="8356680" y="2098800"/>
            <a:ext cx="144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18" name="Line 184"/>
          <p:cNvSpPr/>
          <p:nvPr/>
        </p:nvSpPr>
        <p:spPr>
          <a:xfrm>
            <a:off x="8356680" y="2146320"/>
            <a:ext cx="144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19" name="Line 185"/>
          <p:cNvSpPr/>
          <p:nvPr/>
        </p:nvSpPr>
        <p:spPr>
          <a:xfrm>
            <a:off x="8356680" y="2195640"/>
            <a:ext cx="144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20" name="Line 186"/>
          <p:cNvSpPr/>
          <p:nvPr/>
        </p:nvSpPr>
        <p:spPr>
          <a:xfrm>
            <a:off x="8356680" y="2098800"/>
            <a:ext cx="1440" cy="968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21" name="Line 187"/>
          <p:cNvSpPr/>
          <p:nvPr/>
        </p:nvSpPr>
        <p:spPr>
          <a:xfrm flipH="1">
            <a:off x="7378200" y="1989000"/>
            <a:ext cx="978120" cy="18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22" name="Line 188"/>
          <p:cNvSpPr/>
          <p:nvPr/>
        </p:nvSpPr>
        <p:spPr>
          <a:xfrm flipH="1">
            <a:off x="7378200" y="2143080"/>
            <a:ext cx="978120" cy="18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23" name="Line 189"/>
          <p:cNvSpPr/>
          <p:nvPr/>
        </p:nvSpPr>
        <p:spPr>
          <a:xfrm>
            <a:off x="7378560" y="1989000"/>
            <a:ext cx="1800" cy="1573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24" name="Line 190"/>
          <p:cNvSpPr/>
          <p:nvPr/>
        </p:nvSpPr>
        <p:spPr>
          <a:xfrm flipH="1">
            <a:off x="6908760" y="1519200"/>
            <a:ext cx="49536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25" name="Line 191"/>
          <p:cNvSpPr/>
          <p:nvPr/>
        </p:nvSpPr>
        <p:spPr>
          <a:xfrm flipH="1">
            <a:off x="6908400" y="2070000"/>
            <a:ext cx="469800" cy="18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26" name="Line 192"/>
          <p:cNvSpPr/>
          <p:nvPr/>
        </p:nvSpPr>
        <p:spPr>
          <a:xfrm>
            <a:off x="6908760" y="1519200"/>
            <a:ext cx="1800" cy="5540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27" name="Line 193"/>
          <p:cNvSpPr/>
          <p:nvPr/>
        </p:nvSpPr>
        <p:spPr>
          <a:xfrm flipH="1">
            <a:off x="6514920" y="1793880"/>
            <a:ext cx="39348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28" name="Line 194"/>
          <p:cNvSpPr/>
          <p:nvPr/>
        </p:nvSpPr>
        <p:spPr>
          <a:xfrm flipH="1">
            <a:off x="6514920" y="2243160"/>
            <a:ext cx="184140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29" name="Line 195"/>
          <p:cNvSpPr/>
          <p:nvPr/>
        </p:nvSpPr>
        <p:spPr>
          <a:xfrm>
            <a:off x="6515280" y="1797120"/>
            <a:ext cx="1440" cy="4460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30" name="Line 196"/>
          <p:cNvSpPr/>
          <p:nvPr/>
        </p:nvSpPr>
        <p:spPr>
          <a:xfrm flipH="1">
            <a:off x="6502320" y="2013120"/>
            <a:ext cx="1296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31" name="Line 197"/>
          <p:cNvSpPr/>
          <p:nvPr/>
        </p:nvSpPr>
        <p:spPr>
          <a:xfrm flipH="1">
            <a:off x="6501960" y="2295360"/>
            <a:ext cx="185436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32" name="Line 198"/>
          <p:cNvSpPr/>
          <p:nvPr/>
        </p:nvSpPr>
        <p:spPr>
          <a:xfrm>
            <a:off x="6502320" y="2013120"/>
            <a:ext cx="1800" cy="27756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33" name="Line 199"/>
          <p:cNvSpPr/>
          <p:nvPr/>
        </p:nvSpPr>
        <p:spPr>
          <a:xfrm>
            <a:off x="6502320" y="2158920"/>
            <a:ext cx="180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34" name="Line 200"/>
          <p:cNvSpPr/>
          <p:nvPr/>
        </p:nvSpPr>
        <p:spPr>
          <a:xfrm flipH="1">
            <a:off x="6501960" y="2338560"/>
            <a:ext cx="185436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35" name="Line 201"/>
          <p:cNvSpPr/>
          <p:nvPr/>
        </p:nvSpPr>
        <p:spPr>
          <a:xfrm>
            <a:off x="6502320" y="2158920"/>
            <a:ext cx="1800" cy="1796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36" name="Line 202"/>
          <p:cNvSpPr/>
          <p:nvPr/>
        </p:nvSpPr>
        <p:spPr>
          <a:xfrm>
            <a:off x="8356680" y="2398680"/>
            <a:ext cx="1440" cy="18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37" name="Line 203"/>
          <p:cNvSpPr/>
          <p:nvPr/>
        </p:nvSpPr>
        <p:spPr>
          <a:xfrm>
            <a:off x="8356680" y="2448000"/>
            <a:ext cx="144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38" name="Line 204"/>
          <p:cNvSpPr/>
          <p:nvPr/>
        </p:nvSpPr>
        <p:spPr>
          <a:xfrm>
            <a:off x="8356680" y="2398680"/>
            <a:ext cx="1440" cy="493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39" name="Line 205"/>
          <p:cNvSpPr/>
          <p:nvPr/>
        </p:nvSpPr>
        <p:spPr>
          <a:xfrm flipH="1">
            <a:off x="6375240" y="2419200"/>
            <a:ext cx="1981440" cy="18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40" name="Line 206"/>
          <p:cNvSpPr/>
          <p:nvPr/>
        </p:nvSpPr>
        <p:spPr>
          <a:xfrm flipH="1">
            <a:off x="6375240" y="2498760"/>
            <a:ext cx="198144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41" name="Line 207"/>
          <p:cNvSpPr/>
          <p:nvPr/>
        </p:nvSpPr>
        <p:spPr>
          <a:xfrm>
            <a:off x="6375240" y="2424240"/>
            <a:ext cx="1800" cy="7128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42" name="Line 208"/>
          <p:cNvSpPr/>
          <p:nvPr/>
        </p:nvSpPr>
        <p:spPr>
          <a:xfrm flipH="1">
            <a:off x="6095520" y="2255760"/>
            <a:ext cx="40644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43" name="Line 209"/>
          <p:cNvSpPr/>
          <p:nvPr/>
        </p:nvSpPr>
        <p:spPr>
          <a:xfrm flipH="1">
            <a:off x="6095880" y="2459160"/>
            <a:ext cx="27936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44" name="Line 210"/>
          <p:cNvSpPr/>
          <p:nvPr/>
        </p:nvSpPr>
        <p:spPr>
          <a:xfrm>
            <a:off x="6095880" y="2255760"/>
            <a:ext cx="1800" cy="2034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45" name="Line 211"/>
          <p:cNvSpPr/>
          <p:nvPr/>
        </p:nvSpPr>
        <p:spPr>
          <a:xfrm flipH="1">
            <a:off x="7454520" y="2544840"/>
            <a:ext cx="90180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46" name="Line 212"/>
          <p:cNvSpPr/>
          <p:nvPr/>
        </p:nvSpPr>
        <p:spPr>
          <a:xfrm flipH="1">
            <a:off x="7454520" y="2592360"/>
            <a:ext cx="90180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47" name="Line 213"/>
          <p:cNvSpPr/>
          <p:nvPr/>
        </p:nvSpPr>
        <p:spPr>
          <a:xfrm>
            <a:off x="7454880" y="2544840"/>
            <a:ext cx="1440" cy="475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48" name="Line 214"/>
          <p:cNvSpPr/>
          <p:nvPr/>
        </p:nvSpPr>
        <p:spPr>
          <a:xfrm flipH="1">
            <a:off x="7454520" y="2638440"/>
            <a:ext cx="90180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49" name="Line 215"/>
          <p:cNvSpPr/>
          <p:nvPr/>
        </p:nvSpPr>
        <p:spPr>
          <a:xfrm flipH="1">
            <a:off x="7454520" y="2701800"/>
            <a:ext cx="90180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50" name="Line 216"/>
          <p:cNvSpPr/>
          <p:nvPr/>
        </p:nvSpPr>
        <p:spPr>
          <a:xfrm>
            <a:off x="7454880" y="2641680"/>
            <a:ext cx="1440" cy="601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51" name="Line 217"/>
          <p:cNvSpPr/>
          <p:nvPr/>
        </p:nvSpPr>
        <p:spPr>
          <a:xfrm>
            <a:off x="8356680" y="2797200"/>
            <a:ext cx="144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52" name="Line 218"/>
          <p:cNvSpPr/>
          <p:nvPr/>
        </p:nvSpPr>
        <p:spPr>
          <a:xfrm>
            <a:off x="8356680" y="2844720"/>
            <a:ext cx="1440" cy="18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53" name="Line 219"/>
          <p:cNvSpPr/>
          <p:nvPr/>
        </p:nvSpPr>
        <p:spPr>
          <a:xfrm>
            <a:off x="8356680" y="2797200"/>
            <a:ext cx="1440" cy="475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54" name="Line 220"/>
          <p:cNvSpPr/>
          <p:nvPr/>
        </p:nvSpPr>
        <p:spPr>
          <a:xfrm>
            <a:off x="8356680" y="2894040"/>
            <a:ext cx="144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55" name="Line 221"/>
          <p:cNvSpPr/>
          <p:nvPr/>
        </p:nvSpPr>
        <p:spPr>
          <a:xfrm>
            <a:off x="8356680" y="2941560"/>
            <a:ext cx="1440" cy="18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56" name="Line 222"/>
          <p:cNvSpPr/>
          <p:nvPr/>
        </p:nvSpPr>
        <p:spPr>
          <a:xfrm>
            <a:off x="8356680" y="2990880"/>
            <a:ext cx="144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57" name="Line 223"/>
          <p:cNvSpPr/>
          <p:nvPr/>
        </p:nvSpPr>
        <p:spPr>
          <a:xfrm>
            <a:off x="8356680" y="2894040"/>
            <a:ext cx="1440" cy="968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58" name="Line 224"/>
          <p:cNvSpPr/>
          <p:nvPr/>
        </p:nvSpPr>
        <p:spPr>
          <a:xfrm flipH="1">
            <a:off x="7429320" y="2820960"/>
            <a:ext cx="92700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59" name="Line 225"/>
          <p:cNvSpPr/>
          <p:nvPr/>
        </p:nvSpPr>
        <p:spPr>
          <a:xfrm flipH="1">
            <a:off x="7429320" y="2941560"/>
            <a:ext cx="927000" cy="18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0" name="Line 226"/>
          <p:cNvSpPr/>
          <p:nvPr/>
        </p:nvSpPr>
        <p:spPr>
          <a:xfrm>
            <a:off x="7429680" y="2820960"/>
            <a:ext cx="1440" cy="1206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1" name="Line 227"/>
          <p:cNvSpPr/>
          <p:nvPr/>
        </p:nvSpPr>
        <p:spPr>
          <a:xfrm flipH="1">
            <a:off x="7048440" y="2747880"/>
            <a:ext cx="1308240" cy="18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2" name="Line 228"/>
          <p:cNvSpPr/>
          <p:nvPr/>
        </p:nvSpPr>
        <p:spPr>
          <a:xfrm flipH="1">
            <a:off x="7048080" y="2881440"/>
            <a:ext cx="38124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3" name="Line 229"/>
          <p:cNvSpPr/>
          <p:nvPr/>
        </p:nvSpPr>
        <p:spPr>
          <a:xfrm>
            <a:off x="7048440" y="2747880"/>
            <a:ext cx="1800" cy="13356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4" name="Line 230"/>
          <p:cNvSpPr/>
          <p:nvPr/>
        </p:nvSpPr>
        <p:spPr>
          <a:xfrm flipH="1">
            <a:off x="6832080" y="2665440"/>
            <a:ext cx="62244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5" name="Line 231"/>
          <p:cNvSpPr/>
          <p:nvPr/>
        </p:nvSpPr>
        <p:spPr>
          <a:xfrm flipH="1">
            <a:off x="6832440" y="2809800"/>
            <a:ext cx="21600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6" name="Line 232"/>
          <p:cNvSpPr/>
          <p:nvPr/>
        </p:nvSpPr>
        <p:spPr>
          <a:xfrm>
            <a:off x="6832440" y="2665440"/>
            <a:ext cx="1800" cy="14436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7" name="Line 233"/>
          <p:cNvSpPr/>
          <p:nvPr/>
        </p:nvSpPr>
        <p:spPr>
          <a:xfrm flipH="1">
            <a:off x="6527880" y="2738520"/>
            <a:ext cx="30456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8" name="Line 234"/>
          <p:cNvSpPr/>
          <p:nvPr/>
        </p:nvSpPr>
        <p:spPr>
          <a:xfrm flipH="1">
            <a:off x="6527880" y="3051000"/>
            <a:ext cx="1828800" cy="18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9" name="Line 235"/>
          <p:cNvSpPr/>
          <p:nvPr/>
        </p:nvSpPr>
        <p:spPr>
          <a:xfrm>
            <a:off x="6527880" y="2738520"/>
            <a:ext cx="1440" cy="31248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0" name="Line 236"/>
          <p:cNvSpPr/>
          <p:nvPr/>
        </p:nvSpPr>
        <p:spPr>
          <a:xfrm flipH="1">
            <a:off x="6171840" y="2565360"/>
            <a:ext cx="1282680" cy="18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1" name="Line 237"/>
          <p:cNvSpPr/>
          <p:nvPr/>
        </p:nvSpPr>
        <p:spPr>
          <a:xfrm flipH="1">
            <a:off x="6172200" y="2894040"/>
            <a:ext cx="35568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2" name="Line 238"/>
          <p:cNvSpPr/>
          <p:nvPr/>
        </p:nvSpPr>
        <p:spPr>
          <a:xfrm>
            <a:off x="6172200" y="2568600"/>
            <a:ext cx="1440" cy="325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3" name="Line 239"/>
          <p:cNvSpPr/>
          <p:nvPr/>
        </p:nvSpPr>
        <p:spPr>
          <a:xfrm flipH="1">
            <a:off x="5943240" y="2347920"/>
            <a:ext cx="15228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4" name="Line 240"/>
          <p:cNvSpPr/>
          <p:nvPr/>
        </p:nvSpPr>
        <p:spPr>
          <a:xfrm flipH="1">
            <a:off x="5943240" y="2738520"/>
            <a:ext cx="22860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5" name="Line 241"/>
          <p:cNvSpPr/>
          <p:nvPr/>
        </p:nvSpPr>
        <p:spPr>
          <a:xfrm>
            <a:off x="5943600" y="2351160"/>
            <a:ext cx="1440" cy="38736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6" name="Line 242"/>
          <p:cNvSpPr/>
          <p:nvPr/>
        </p:nvSpPr>
        <p:spPr>
          <a:xfrm flipH="1">
            <a:off x="5613120" y="1073160"/>
            <a:ext cx="11412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7" name="Line 243"/>
          <p:cNvSpPr/>
          <p:nvPr/>
        </p:nvSpPr>
        <p:spPr>
          <a:xfrm flipH="1">
            <a:off x="5613120" y="2544840"/>
            <a:ext cx="33012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8" name="Line 244"/>
          <p:cNvSpPr/>
          <p:nvPr/>
        </p:nvSpPr>
        <p:spPr>
          <a:xfrm>
            <a:off x="5613480" y="1073160"/>
            <a:ext cx="1440" cy="147168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9" name="Line 245"/>
          <p:cNvSpPr/>
          <p:nvPr/>
        </p:nvSpPr>
        <p:spPr>
          <a:xfrm flipH="1">
            <a:off x="7404120" y="3098880"/>
            <a:ext cx="95256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0" name="Line 246"/>
          <p:cNvSpPr/>
          <p:nvPr/>
        </p:nvSpPr>
        <p:spPr>
          <a:xfrm flipH="1">
            <a:off x="7404120" y="3147840"/>
            <a:ext cx="95256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1" name="Line 247"/>
          <p:cNvSpPr/>
          <p:nvPr/>
        </p:nvSpPr>
        <p:spPr>
          <a:xfrm>
            <a:off x="7404120" y="3098880"/>
            <a:ext cx="1440" cy="4896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2" name="Line 248"/>
          <p:cNvSpPr/>
          <p:nvPr/>
        </p:nvSpPr>
        <p:spPr>
          <a:xfrm>
            <a:off x="8367840" y="3195720"/>
            <a:ext cx="1440" cy="475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3" name="Line 249"/>
          <p:cNvSpPr/>
          <p:nvPr/>
        </p:nvSpPr>
        <p:spPr>
          <a:xfrm flipH="1">
            <a:off x="7378200" y="3219480"/>
            <a:ext cx="97812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4" name="Line 250"/>
          <p:cNvSpPr/>
          <p:nvPr/>
        </p:nvSpPr>
        <p:spPr>
          <a:xfrm flipH="1">
            <a:off x="7378200" y="3290760"/>
            <a:ext cx="978120" cy="18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5" name="Line 251"/>
          <p:cNvSpPr/>
          <p:nvPr/>
        </p:nvSpPr>
        <p:spPr>
          <a:xfrm>
            <a:off x="7378560" y="3219480"/>
            <a:ext cx="1800" cy="7128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6" name="Line 252"/>
          <p:cNvSpPr/>
          <p:nvPr/>
        </p:nvSpPr>
        <p:spPr>
          <a:xfrm flipH="1">
            <a:off x="6908760" y="3124080"/>
            <a:ext cx="49536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7" name="Line 253"/>
          <p:cNvSpPr/>
          <p:nvPr/>
        </p:nvSpPr>
        <p:spPr>
          <a:xfrm flipH="1">
            <a:off x="6908400" y="3255840"/>
            <a:ext cx="46980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8" name="Line 254"/>
          <p:cNvSpPr/>
          <p:nvPr/>
        </p:nvSpPr>
        <p:spPr>
          <a:xfrm>
            <a:off x="6908760" y="3124080"/>
            <a:ext cx="1800" cy="13176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9" name="Line 255"/>
          <p:cNvSpPr/>
          <p:nvPr/>
        </p:nvSpPr>
        <p:spPr>
          <a:xfrm>
            <a:off x="8356680" y="3340080"/>
            <a:ext cx="144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0" name="Line 256"/>
          <p:cNvSpPr/>
          <p:nvPr/>
        </p:nvSpPr>
        <p:spPr>
          <a:xfrm>
            <a:off x="8356680" y="3400560"/>
            <a:ext cx="144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1" name="Line 257"/>
          <p:cNvSpPr/>
          <p:nvPr/>
        </p:nvSpPr>
        <p:spPr>
          <a:xfrm>
            <a:off x="8356680" y="3340080"/>
            <a:ext cx="1440" cy="6048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2" name="Line 258"/>
          <p:cNvSpPr/>
          <p:nvPr/>
        </p:nvSpPr>
        <p:spPr>
          <a:xfrm flipH="1">
            <a:off x="6400440" y="3182760"/>
            <a:ext cx="507960" cy="18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3" name="Line 259"/>
          <p:cNvSpPr/>
          <p:nvPr/>
        </p:nvSpPr>
        <p:spPr>
          <a:xfrm flipH="1">
            <a:off x="6400440" y="3376440"/>
            <a:ext cx="195588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4" name="Line 260"/>
          <p:cNvSpPr/>
          <p:nvPr/>
        </p:nvSpPr>
        <p:spPr>
          <a:xfrm>
            <a:off x="6400800" y="3182760"/>
            <a:ext cx="1440" cy="19368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5" name="Line 261"/>
          <p:cNvSpPr/>
          <p:nvPr/>
        </p:nvSpPr>
        <p:spPr>
          <a:xfrm>
            <a:off x="6400800" y="3279600"/>
            <a:ext cx="1440" cy="18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6" name="Line 262"/>
          <p:cNvSpPr/>
          <p:nvPr/>
        </p:nvSpPr>
        <p:spPr>
          <a:xfrm flipH="1">
            <a:off x="6400440" y="3448080"/>
            <a:ext cx="195588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7" name="Line 263"/>
          <p:cNvSpPr/>
          <p:nvPr/>
        </p:nvSpPr>
        <p:spPr>
          <a:xfrm>
            <a:off x="6400800" y="3279600"/>
            <a:ext cx="1440" cy="16848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8" name="Line 264"/>
          <p:cNvSpPr/>
          <p:nvPr/>
        </p:nvSpPr>
        <p:spPr>
          <a:xfrm flipH="1">
            <a:off x="5359320" y="1809720"/>
            <a:ext cx="25416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9" name="Line 265"/>
          <p:cNvSpPr/>
          <p:nvPr/>
        </p:nvSpPr>
        <p:spPr>
          <a:xfrm flipH="1">
            <a:off x="5358960" y="3363840"/>
            <a:ext cx="1041480" cy="18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0" name="Line 266"/>
          <p:cNvSpPr/>
          <p:nvPr/>
        </p:nvSpPr>
        <p:spPr>
          <a:xfrm>
            <a:off x="5359320" y="1809720"/>
            <a:ext cx="1800" cy="15541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1" name="Line 267"/>
          <p:cNvSpPr/>
          <p:nvPr/>
        </p:nvSpPr>
        <p:spPr>
          <a:xfrm flipH="1">
            <a:off x="7378200" y="3497400"/>
            <a:ext cx="97812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2" name="Line 268"/>
          <p:cNvSpPr/>
          <p:nvPr/>
        </p:nvSpPr>
        <p:spPr>
          <a:xfrm flipH="1">
            <a:off x="7378200" y="3544920"/>
            <a:ext cx="97812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3" name="Line 269"/>
          <p:cNvSpPr/>
          <p:nvPr/>
        </p:nvSpPr>
        <p:spPr>
          <a:xfrm>
            <a:off x="7378560" y="3497400"/>
            <a:ext cx="1800" cy="475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4" name="Line 270"/>
          <p:cNvSpPr/>
          <p:nvPr/>
        </p:nvSpPr>
        <p:spPr>
          <a:xfrm flipH="1">
            <a:off x="6870240" y="3521160"/>
            <a:ext cx="50796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5" name="Line 271"/>
          <p:cNvSpPr/>
          <p:nvPr/>
        </p:nvSpPr>
        <p:spPr>
          <a:xfrm flipH="1">
            <a:off x="6870600" y="3592440"/>
            <a:ext cx="1486080" cy="18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6" name="Line 272"/>
          <p:cNvSpPr/>
          <p:nvPr/>
        </p:nvSpPr>
        <p:spPr>
          <a:xfrm>
            <a:off x="6870600" y="3521160"/>
            <a:ext cx="1800" cy="7128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7" name="Line 273"/>
          <p:cNvSpPr/>
          <p:nvPr/>
        </p:nvSpPr>
        <p:spPr>
          <a:xfrm flipH="1">
            <a:off x="5727240" y="3554280"/>
            <a:ext cx="1143000" cy="18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8" name="Line 274"/>
          <p:cNvSpPr/>
          <p:nvPr/>
        </p:nvSpPr>
        <p:spPr>
          <a:xfrm flipH="1">
            <a:off x="5727240" y="3641760"/>
            <a:ext cx="262908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9" name="Line 275"/>
          <p:cNvSpPr/>
          <p:nvPr/>
        </p:nvSpPr>
        <p:spPr>
          <a:xfrm>
            <a:off x="5727600" y="3557520"/>
            <a:ext cx="1800" cy="842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0" name="Line 276"/>
          <p:cNvSpPr/>
          <p:nvPr/>
        </p:nvSpPr>
        <p:spPr>
          <a:xfrm flipH="1">
            <a:off x="5194440" y="2581200"/>
            <a:ext cx="16488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1" name="Line 277"/>
          <p:cNvSpPr/>
          <p:nvPr/>
        </p:nvSpPr>
        <p:spPr>
          <a:xfrm flipH="1">
            <a:off x="5194080" y="3605040"/>
            <a:ext cx="53316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2" name="Line 278"/>
          <p:cNvSpPr/>
          <p:nvPr/>
        </p:nvSpPr>
        <p:spPr>
          <a:xfrm>
            <a:off x="5194440" y="2581200"/>
            <a:ext cx="1440" cy="10238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3" name="Line 279"/>
          <p:cNvSpPr/>
          <p:nvPr/>
        </p:nvSpPr>
        <p:spPr>
          <a:xfrm>
            <a:off x="8356680" y="3689280"/>
            <a:ext cx="1440" cy="18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4" name="Line 280"/>
          <p:cNvSpPr/>
          <p:nvPr/>
        </p:nvSpPr>
        <p:spPr>
          <a:xfrm>
            <a:off x="8356680" y="3749760"/>
            <a:ext cx="144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5" name="Line 281"/>
          <p:cNvSpPr/>
          <p:nvPr/>
        </p:nvSpPr>
        <p:spPr>
          <a:xfrm>
            <a:off x="8356680" y="3798720"/>
            <a:ext cx="144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6" name="Line 282"/>
          <p:cNvSpPr/>
          <p:nvPr/>
        </p:nvSpPr>
        <p:spPr>
          <a:xfrm>
            <a:off x="8356680" y="3846600"/>
            <a:ext cx="144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7" name="Line 283"/>
          <p:cNvSpPr/>
          <p:nvPr/>
        </p:nvSpPr>
        <p:spPr>
          <a:xfrm>
            <a:off x="8356680" y="3689280"/>
            <a:ext cx="1440" cy="1573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8" name="Line 284"/>
          <p:cNvSpPr/>
          <p:nvPr/>
        </p:nvSpPr>
        <p:spPr>
          <a:xfrm flipH="1">
            <a:off x="7404120" y="3773520"/>
            <a:ext cx="95256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9" name="Line 285"/>
          <p:cNvSpPr/>
          <p:nvPr/>
        </p:nvSpPr>
        <p:spPr>
          <a:xfrm flipH="1">
            <a:off x="7404120" y="3895560"/>
            <a:ext cx="95256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0" name="Line 286"/>
          <p:cNvSpPr/>
          <p:nvPr/>
        </p:nvSpPr>
        <p:spPr>
          <a:xfrm>
            <a:off x="7404120" y="3773520"/>
            <a:ext cx="1440" cy="1220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1" name="Line 287"/>
          <p:cNvSpPr/>
          <p:nvPr/>
        </p:nvSpPr>
        <p:spPr>
          <a:xfrm>
            <a:off x="8356680" y="3943440"/>
            <a:ext cx="144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2" name="Line 288"/>
          <p:cNvSpPr/>
          <p:nvPr/>
        </p:nvSpPr>
        <p:spPr>
          <a:xfrm>
            <a:off x="8356680" y="3990960"/>
            <a:ext cx="144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3" name="Line 289"/>
          <p:cNvSpPr/>
          <p:nvPr/>
        </p:nvSpPr>
        <p:spPr>
          <a:xfrm>
            <a:off x="8356680" y="4051440"/>
            <a:ext cx="144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4" name="Line 290"/>
          <p:cNvSpPr/>
          <p:nvPr/>
        </p:nvSpPr>
        <p:spPr>
          <a:xfrm>
            <a:off x="8356680" y="4098960"/>
            <a:ext cx="144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5" name="Line 291"/>
          <p:cNvSpPr/>
          <p:nvPr/>
        </p:nvSpPr>
        <p:spPr>
          <a:xfrm>
            <a:off x="8356680" y="3943440"/>
            <a:ext cx="1440" cy="1555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6" name="Line 292"/>
          <p:cNvSpPr/>
          <p:nvPr/>
        </p:nvSpPr>
        <p:spPr>
          <a:xfrm>
            <a:off x="8356680" y="4148280"/>
            <a:ext cx="144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7" name="Line 293"/>
          <p:cNvSpPr/>
          <p:nvPr/>
        </p:nvSpPr>
        <p:spPr>
          <a:xfrm>
            <a:off x="8356680" y="4195800"/>
            <a:ext cx="144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8" name="Line 294"/>
          <p:cNvSpPr/>
          <p:nvPr/>
        </p:nvSpPr>
        <p:spPr>
          <a:xfrm>
            <a:off x="8356680" y="4148280"/>
            <a:ext cx="1440" cy="475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9" name="Line 295"/>
          <p:cNvSpPr/>
          <p:nvPr/>
        </p:nvSpPr>
        <p:spPr>
          <a:xfrm flipH="1">
            <a:off x="7454520" y="4014720"/>
            <a:ext cx="901800" cy="18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0" name="Line 296"/>
          <p:cNvSpPr/>
          <p:nvPr/>
        </p:nvSpPr>
        <p:spPr>
          <a:xfrm flipH="1">
            <a:off x="7454520" y="4172040"/>
            <a:ext cx="90180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1" name="Line 297"/>
          <p:cNvSpPr/>
          <p:nvPr/>
        </p:nvSpPr>
        <p:spPr>
          <a:xfrm>
            <a:off x="7454880" y="4014720"/>
            <a:ext cx="1440" cy="1573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2" name="Line 298"/>
          <p:cNvSpPr/>
          <p:nvPr/>
        </p:nvSpPr>
        <p:spPr>
          <a:xfrm flipH="1">
            <a:off x="7124400" y="4098960"/>
            <a:ext cx="33012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3" name="Line 299"/>
          <p:cNvSpPr/>
          <p:nvPr/>
        </p:nvSpPr>
        <p:spPr>
          <a:xfrm flipH="1">
            <a:off x="7124760" y="4245120"/>
            <a:ext cx="123192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4" name="Line 300"/>
          <p:cNvSpPr/>
          <p:nvPr/>
        </p:nvSpPr>
        <p:spPr>
          <a:xfrm>
            <a:off x="7124760" y="4098960"/>
            <a:ext cx="1440" cy="14616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5" name="Line 301"/>
          <p:cNvSpPr/>
          <p:nvPr/>
        </p:nvSpPr>
        <p:spPr>
          <a:xfrm flipH="1">
            <a:off x="6273720" y="3830760"/>
            <a:ext cx="113040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6" name="Line 302"/>
          <p:cNvSpPr/>
          <p:nvPr/>
        </p:nvSpPr>
        <p:spPr>
          <a:xfrm flipH="1">
            <a:off x="6273720" y="4172040"/>
            <a:ext cx="85104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7" name="Line 303"/>
          <p:cNvSpPr/>
          <p:nvPr/>
        </p:nvSpPr>
        <p:spPr>
          <a:xfrm>
            <a:off x="6273720" y="3833640"/>
            <a:ext cx="1800" cy="3384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8" name="Line 304"/>
          <p:cNvSpPr/>
          <p:nvPr/>
        </p:nvSpPr>
        <p:spPr>
          <a:xfrm>
            <a:off x="8356680" y="4292640"/>
            <a:ext cx="144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9" name="Line 305"/>
          <p:cNvSpPr/>
          <p:nvPr/>
        </p:nvSpPr>
        <p:spPr>
          <a:xfrm>
            <a:off x="8356680" y="4341960"/>
            <a:ext cx="144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40" name="Line 306"/>
          <p:cNvSpPr/>
          <p:nvPr/>
        </p:nvSpPr>
        <p:spPr>
          <a:xfrm>
            <a:off x="8356680" y="4292640"/>
            <a:ext cx="1440" cy="493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41" name="Line 307"/>
          <p:cNvSpPr/>
          <p:nvPr/>
        </p:nvSpPr>
        <p:spPr>
          <a:xfrm flipH="1">
            <a:off x="5511960" y="4003560"/>
            <a:ext cx="761760" cy="18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42" name="Line 308"/>
          <p:cNvSpPr/>
          <p:nvPr/>
        </p:nvSpPr>
        <p:spPr>
          <a:xfrm flipH="1">
            <a:off x="5511960" y="4316400"/>
            <a:ext cx="284472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43" name="Line 309"/>
          <p:cNvSpPr/>
          <p:nvPr/>
        </p:nvSpPr>
        <p:spPr>
          <a:xfrm>
            <a:off x="5511960" y="4003560"/>
            <a:ext cx="1440" cy="3128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44" name="Line 310"/>
          <p:cNvSpPr/>
          <p:nvPr/>
        </p:nvSpPr>
        <p:spPr>
          <a:xfrm flipH="1">
            <a:off x="4774680" y="3098880"/>
            <a:ext cx="41940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45" name="Line 311"/>
          <p:cNvSpPr/>
          <p:nvPr/>
        </p:nvSpPr>
        <p:spPr>
          <a:xfrm flipH="1">
            <a:off x="4774680" y="4159080"/>
            <a:ext cx="736920" cy="18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46" name="Line 312"/>
          <p:cNvSpPr/>
          <p:nvPr/>
        </p:nvSpPr>
        <p:spPr>
          <a:xfrm>
            <a:off x="4775040" y="3098880"/>
            <a:ext cx="1800" cy="10602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47" name="Line 313"/>
          <p:cNvSpPr/>
          <p:nvPr/>
        </p:nvSpPr>
        <p:spPr>
          <a:xfrm>
            <a:off x="8356680" y="4448160"/>
            <a:ext cx="144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48" name="Line 314"/>
          <p:cNvSpPr/>
          <p:nvPr/>
        </p:nvSpPr>
        <p:spPr>
          <a:xfrm>
            <a:off x="8356680" y="4497480"/>
            <a:ext cx="144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49" name="Line 315"/>
          <p:cNvSpPr/>
          <p:nvPr/>
        </p:nvSpPr>
        <p:spPr>
          <a:xfrm>
            <a:off x="8356680" y="4448160"/>
            <a:ext cx="1440" cy="493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50" name="Line 316"/>
          <p:cNvSpPr/>
          <p:nvPr/>
        </p:nvSpPr>
        <p:spPr>
          <a:xfrm flipH="1">
            <a:off x="7467480" y="4398840"/>
            <a:ext cx="88920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51" name="Line 317"/>
          <p:cNvSpPr/>
          <p:nvPr/>
        </p:nvSpPr>
        <p:spPr>
          <a:xfrm flipH="1">
            <a:off x="7467480" y="4473720"/>
            <a:ext cx="88920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52" name="Line 318"/>
          <p:cNvSpPr/>
          <p:nvPr/>
        </p:nvSpPr>
        <p:spPr>
          <a:xfrm>
            <a:off x="7467480" y="4402080"/>
            <a:ext cx="1800" cy="716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53" name="Line 319"/>
          <p:cNvSpPr/>
          <p:nvPr/>
        </p:nvSpPr>
        <p:spPr>
          <a:xfrm>
            <a:off x="8356680" y="4545000"/>
            <a:ext cx="144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54" name="Line 320"/>
          <p:cNvSpPr/>
          <p:nvPr/>
        </p:nvSpPr>
        <p:spPr>
          <a:xfrm>
            <a:off x="8356680" y="4594320"/>
            <a:ext cx="144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55" name="Line 321"/>
          <p:cNvSpPr/>
          <p:nvPr/>
        </p:nvSpPr>
        <p:spPr>
          <a:xfrm>
            <a:off x="8356680" y="4545000"/>
            <a:ext cx="1440" cy="493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56" name="Line 322"/>
          <p:cNvSpPr/>
          <p:nvPr/>
        </p:nvSpPr>
        <p:spPr>
          <a:xfrm>
            <a:off x="8356680" y="4641840"/>
            <a:ext cx="144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57" name="Line 323"/>
          <p:cNvSpPr/>
          <p:nvPr/>
        </p:nvSpPr>
        <p:spPr>
          <a:xfrm>
            <a:off x="8356680" y="4691160"/>
            <a:ext cx="144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58" name="Line 324"/>
          <p:cNvSpPr/>
          <p:nvPr/>
        </p:nvSpPr>
        <p:spPr>
          <a:xfrm>
            <a:off x="8356680" y="4641840"/>
            <a:ext cx="1440" cy="493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59" name="Line 325"/>
          <p:cNvSpPr/>
          <p:nvPr/>
        </p:nvSpPr>
        <p:spPr>
          <a:xfrm flipH="1">
            <a:off x="7454520" y="4570560"/>
            <a:ext cx="90180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60" name="Line 326"/>
          <p:cNvSpPr/>
          <p:nvPr/>
        </p:nvSpPr>
        <p:spPr>
          <a:xfrm flipH="1">
            <a:off x="7454520" y="4667400"/>
            <a:ext cx="90180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61" name="Line 327"/>
          <p:cNvSpPr/>
          <p:nvPr/>
        </p:nvSpPr>
        <p:spPr>
          <a:xfrm>
            <a:off x="7454880" y="4570560"/>
            <a:ext cx="1440" cy="968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62" name="Line 328"/>
          <p:cNvSpPr/>
          <p:nvPr/>
        </p:nvSpPr>
        <p:spPr>
          <a:xfrm flipH="1">
            <a:off x="7010280" y="4437000"/>
            <a:ext cx="457200" cy="18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63" name="Line 329"/>
          <p:cNvSpPr/>
          <p:nvPr/>
        </p:nvSpPr>
        <p:spPr>
          <a:xfrm flipH="1">
            <a:off x="7009920" y="4618080"/>
            <a:ext cx="44460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64" name="Line 330"/>
          <p:cNvSpPr/>
          <p:nvPr/>
        </p:nvSpPr>
        <p:spPr>
          <a:xfrm>
            <a:off x="7010280" y="4437000"/>
            <a:ext cx="1800" cy="18108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65" name="Line 331"/>
          <p:cNvSpPr/>
          <p:nvPr/>
        </p:nvSpPr>
        <p:spPr>
          <a:xfrm>
            <a:off x="8356680" y="4751280"/>
            <a:ext cx="1440" cy="18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66" name="Line 332"/>
          <p:cNvSpPr/>
          <p:nvPr/>
        </p:nvSpPr>
        <p:spPr>
          <a:xfrm>
            <a:off x="8356680" y="4799160"/>
            <a:ext cx="144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67" name="Line 333"/>
          <p:cNvSpPr/>
          <p:nvPr/>
        </p:nvSpPr>
        <p:spPr>
          <a:xfrm>
            <a:off x="8356680" y="4751280"/>
            <a:ext cx="1440" cy="4788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68" name="Line 334"/>
          <p:cNvSpPr/>
          <p:nvPr/>
        </p:nvSpPr>
        <p:spPr>
          <a:xfrm flipH="1">
            <a:off x="6654600" y="4521240"/>
            <a:ext cx="35532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69" name="Line 335"/>
          <p:cNvSpPr/>
          <p:nvPr/>
        </p:nvSpPr>
        <p:spPr>
          <a:xfrm flipH="1">
            <a:off x="6654600" y="4775040"/>
            <a:ext cx="1701720" cy="18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70" name="Line 336"/>
          <p:cNvSpPr/>
          <p:nvPr/>
        </p:nvSpPr>
        <p:spPr>
          <a:xfrm>
            <a:off x="6654960" y="4521240"/>
            <a:ext cx="1440" cy="2538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71" name="Line 337"/>
          <p:cNvSpPr/>
          <p:nvPr/>
        </p:nvSpPr>
        <p:spPr>
          <a:xfrm flipH="1">
            <a:off x="6324480" y="4654440"/>
            <a:ext cx="330480" cy="18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72" name="Line 338"/>
          <p:cNvSpPr/>
          <p:nvPr/>
        </p:nvSpPr>
        <p:spPr>
          <a:xfrm flipH="1">
            <a:off x="6324120" y="4848120"/>
            <a:ext cx="203220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73" name="Line 339"/>
          <p:cNvSpPr/>
          <p:nvPr/>
        </p:nvSpPr>
        <p:spPr>
          <a:xfrm>
            <a:off x="6324480" y="4654440"/>
            <a:ext cx="1800" cy="19368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74" name="Line 340"/>
          <p:cNvSpPr/>
          <p:nvPr/>
        </p:nvSpPr>
        <p:spPr>
          <a:xfrm flipH="1">
            <a:off x="5575320" y="4896000"/>
            <a:ext cx="278136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75" name="Line 341"/>
          <p:cNvSpPr/>
          <p:nvPr/>
        </p:nvSpPr>
        <p:spPr>
          <a:xfrm flipH="1">
            <a:off x="5575320" y="4943520"/>
            <a:ext cx="278136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76" name="Line 342"/>
          <p:cNvSpPr/>
          <p:nvPr/>
        </p:nvSpPr>
        <p:spPr>
          <a:xfrm>
            <a:off x="5575320" y="4896000"/>
            <a:ext cx="1440" cy="475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77" name="Line 343"/>
          <p:cNvSpPr/>
          <p:nvPr/>
        </p:nvSpPr>
        <p:spPr>
          <a:xfrm flipH="1">
            <a:off x="4952880" y="4748040"/>
            <a:ext cx="137160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78" name="Line 344"/>
          <p:cNvSpPr/>
          <p:nvPr/>
        </p:nvSpPr>
        <p:spPr>
          <a:xfrm flipH="1">
            <a:off x="4952520" y="4919760"/>
            <a:ext cx="62244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79" name="Line 345"/>
          <p:cNvSpPr/>
          <p:nvPr/>
        </p:nvSpPr>
        <p:spPr>
          <a:xfrm>
            <a:off x="4952880" y="4751280"/>
            <a:ext cx="1800" cy="16848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80" name="Line 346"/>
          <p:cNvSpPr/>
          <p:nvPr/>
        </p:nvSpPr>
        <p:spPr>
          <a:xfrm flipH="1">
            <a:off x="4622400" y="4835520"/>
            <a:ext cx="33012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81" name="Line 347"/>
          <p:cNvSpPr/>
          <p:nvPr/>
        </p:nvSpPr>
        <p:spPr>
          <a:xfrm flipH="1">
            <a:off x="4622760" y="4991040"/>
            <a:ext cx="3733920" cy="18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82" name="Line 348"/>
          <p:cNvSpPr/>
          <p:nvPr/>
        </p:nvSpPr>
        <p:spPr>
          <a:xfrm>
            <a:off x="4622760" y="4835520"/>
            <a:ext cx="1800" cy="1555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83" name="Line 349"/>
          <p:cNvSpPr/>
          <p:nvPr/>
        </p:nvSpPr>
        <p:spPr>
          <a:xfrm flipH="1">
            <a:off x="4317840" y="3629160"/>
            <a:ext cx="45720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84" name="Line 350"/>
          <p:cNvSpPr/>
          <p:nvPr/>
        </p:nvSpPr>
        <p:spPr>
          <a:xfrm flipH="1">
            <a:off x="4317480" y="4919760"/>
            <a:ext cx="30492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85" name="Line 351"/>
          <p:cNvSpPr/>
          <p:nvPr/>
        </p:nvSpPr>
        <p:spPr>
          <a:xfrm>
            <a:off x="4317840" y="3629160"/>
            <a:ext cx="1800" cy="12906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86" name="Line 352"/>
          <p:cNvSpPr/>
          <p:nvPr/>
        </p:nvSpPr>
        <p:spPr>
          <a:xfrm flipH="1">
            <a:off x="5511960" y="5052960"/>
            <a:ext cx="284472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87" name="Line 353"/>
          <p:cNvSpPr/>
          <p:nvPr/>
        </p:nvSpPr>
        <p:spPr>
          <a:xfrm flipH="1">
            <a:off x="5511960" y="5097600"/>
            <a:ext cx="284472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88" name="Line 354"/>
          <p:cNvSpPr/>
          <p:nvPr/>
        </p:nvSpPr>
        <p:spPr>
          <a:xfrm>
            <a:off x="5511960" y="5052960"/>
            <a:ext cx="1440" cy="475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89" name="Line 355"/>
          <p:cNvSpPr/>
          <p:nvPr/>
        </p:nvSpPr>
        <p:spPr>
          <a:xfrm flipH="1">
            <a:off x="4165560" y="5076720"/>
            <a:ext cx="134640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90" name="Line 356"/>
          <p:cNvSpPr/>
          <p:nvPr/>
        </p:nvSpPr>
        <p:spPr>
          <a:xfrm flipH="1">
            <a:off x="4165560" y="5148360"/>
            <a:ext cx="419112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91" name="Line 357"/>
          <p:cNvSpPr/>
          <p:nvPr/>
        </p:nvSpPr>
        <p:spPr>
          <a:xfrm>
            <a:off x="4165560" y="5076720"/>
            <a:ext cx="1800" cy="716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92" name="Line 358"/>
          <p:cNvSpPr/>
          <p:nvPr/>
        </p:nvSpPr>
        <p:spPr>
          <a:xfrm flipH="1">
            <a:off x="3873600" y="4268880"/>
            <a:ext cx="44424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93" name="Line 359"/>
          <p:cNvSpPr/>
          <p:nvPr/>
        </p:nvSpPr>
        <p:spPr>
          <a:xfrm flipH="1">
            <a:off x="3873240" y="5113440"/>
            <a:ext cx="29196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94" name="Line 360"/>
          <p:cNvSpPr/>
          <p:nvPr/>
        </p:nvSpPr>
        <p:spPr>
          <a:xfrm>
            <a:off x="3873600" y="4268880"/>
            <a:ext cx="1440" cy="84456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95" name="Line 361"/>
          <p:cNvSpPr/>
          <p:nvPr/>
        </p:nvSpPr>
        <p:spPr>
          <a:xfrm flipH="1">
            <a:off x="5575320" y="5197320"/>
            <a:ext cx="2781360" cy="18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96" name="Line 362"/>
          <p:cNvSpPr/>
          <p:nvPr/>
        </p:nvSpPr>
        <p:spPr>
          <a:xfrm flipH="1">
            <a:off x="5575320" y="5241960"/>
            <a:ext cx="278136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97" name="Line 363"/>
          <p:cNvSpPr/>
          <p:nvPr/>
        </p:nvSpPr>
        <p:spPr>
          <a:xfrm>
            <a:off x="5575320" y="5197320"/>
            <a:ext cx="1440" cy="4788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98" name="Line 364"/>
          <p:cNvSpPr/>
          <p:nvPr/>
        </p:nvSpPr>
        <p:spPr>
          <a:xfrm flipH="1">
            <a:off x="4165560" y="5221440"/>
            <a:ext cx="140976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99" name="Line 365"/>
          <p:cNvSpPr/>
          <p:nvPr/>
        </p:nvSpPr>
        <p:spPr>
          <a:xfrm flipH="1">
            <a:off x="4165560" y="5292720"/>
            <a:ext cx="419112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00" name="Line 366"/>
          <p:cNvSpPr/>
          <p:nvPr/>
        </p:nvSpPr>
        <p:spPr>
          <a:xfrm>
            <a:off x="4165560" y="5221440"/>
            <a:ext cx="1800" cy="7128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01" name="Line 367"/>
          <p:cNvSpPr/>
          <p:nvPr/>
        </p:nvSpPr>
        <p:spPr>
          <a:xfrm flipH="1">
            <a:off x="3504960" y="4691160"/>
            <a:ext cx="36828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02" name="Line 368"/>
          <p:cNvSpPr/>
          <p:nvPr/>
        </p:nvSpPr>
        <p:spPr>
          <a:xfrm flipH="1">
            <a:off x="3505320" y="5257800"/>
            <a:ext cx="66024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03" name="Line 369"/>
          <p:cNvSpPr/>
          <p:nvPr/>
        </p:nvSpPr>
        <p:spPr>
          <a:xfrm>
            <a:off x="3505320" y="4691160"/>
            <a:ext cx="1440" cy="5666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04" name="Line 370"/>
          <p:cNvSpPr/>
          <p:nvPr/>
        </p:nvSpPr>
        <p:spPr>
          <a:xfrm flipH="1">
            <a:off x="6375240" y="5402160"/>
            <a:ext cx="198144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05" name="Line 371"/>
          <p:cNvSpPr/>
          <p:nvPr/>
        </p:nvSpPr>
        <p:spPr>
          <a:xfrm flipH="1">
            <a:off x="6375240" y="5450040"/>
            <a:ext cx="198144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06" name="Line 372"/>
          <p:cNvSpPr/>
          <p:nvPr/>
        </p:nvSpPr>
        <p:spPr>
          <a:xfrm>
            <a:off x="6375240" y="5402160"/>
            <a:ext cx="1800" cy="4788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07" name="Line 373"/>
          <p:cNvSpPr/>
          <p:nvPr/>
        </p:nvSpPr>
        <p:spPr>
          <a:xfrm flipH="1">
            <a:off x="5447880" y="5342040"/>
            <a:ext cx="290844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08" name="Line 374"/>
          <p:cNvSpPr/>
          <p:nvPr/>
        </p:nvSpPr>
        <p:spPr>
          <a:xfrm flipH="1">
            <a:off x="5447880" y="5425920"/>
            <a:ext cx="927000" cy="18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09" name="Line 375"/>
          <p:cNvSpPr/>
          <p:nvPr/>
        </p:nvSpPr>
        <p:spPr>
          <a:xfrm>
            <a:off x="5448240" y="5342040"/>
            <a:ext cx="1800" cy="8388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10" name="Line 376"/>
          <p:cNvSpPr/>
          <p:nvPr/>
        </p:nvSpPr>
        <p:spPr>
          <a:xfrm>
            <a:off x="8356680" y="5546880"/>
            <a:ext cx="144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11" name="Line 377"/>
          <p:cNvSpPr/>
          <p:nvPr/>
        </p:nvSpPr>
        <p:spPr>
          <a:xfrm>
            <a:off x="8356680" y="5595840"/>
            <a:ext cx="144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12" name="Line 378"/>
          <p:cNvSpPr/>
          <p:nvPr/>
        </p:nvSpPr>
        <p:spPr>
          <a:xfrm>
            <a:off x="8356680" y="5546880"/>
            <a:ext cx="1440" cy="4896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13" name="Line 379"/>
          <p:cNvSpPr/>
          <p:nvPr/>
        </p:nvSpPr>
        <p:spPr>
          <a:xfrm flipH="1">
            <a:off x="7378200" y="5499000"/>
            <a:ext cx="97812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14" name="Line 380"/>
          <p:cNvSpPr/>
          <p:nvPr/>
        </p:nvSpPr>
        <p:spPr>
          <a:xfrm flipH="1">
            <a:off x="7378200" y="5570640"/>
            <a:ext cx="97812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15" name="Line 381"/>
          <p:cNvSpPr/>
          <p:nvPr/>
        </p:nvSpPr>
        <p:spPr>
          <a:xfrm>
            <a:off x="7378560" y="5499000"/>
            <a:ext cx="1800" cy="716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16" name="Line 382"/>
          <p:cNvSpPr/>
          <p:nvPr/>
        </p:nvSpPr>
        <p:spPr>
          <a:xfrm flipH="1">
            <a:off x="6070320" y="5533920"/>
            <a:ext cx="1307880" cy="18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17" name="Line 383"/>
          <p:cNvSpPr/>
          <p:nvPr/>
        </p:nvSpPr>
        <p:spPr>
          <a:xfrm flipH="1">
            <a:off x="6070680" y="5643720"/>
            <a:ext cx="228600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18" name="Line 384"/>
          <p:cNvSpPr/>
          <p:nvPr/>
        </p:nvSpPr>
        <p:spPr>
          <a:xfrm>
            <a:off x="6070680" y="5533920"/>
            <a:ext cx="1440" cy="1098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19" name="Line 385"/>
          <p:cNvSpPr/>
          <p:nvPr/>
        </p:nvSpPr>
        <p:spPr>
          <a:xfrm flipH="1">
            <a:off x="5753160" y="5591160"/>
            <a:ext cx="31752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20" name="Line 386"/>
          <p:cNvSpPr/>
          <p:nvPr/>
        </p:nvSpPr>
        <p:spPr>
          <a:xfrm flipH="1">
            <a:off x="5753160" y="5691240"/>
            <a:ext cx="260352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21" name="Line 387"/>
          <p:cNvSpPr/>
          <p:nvPr/>
        </p:nvSpPr>
        <p:spPr>
          <a:xfrm>
            <a:off x="5753160" y="5595840"/>
            <a:ext cx="1440" cy="954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22" name="Line 388"/>
          <p:cNvSpPr/>
          <p:nvPr/>
        </p:nvSpPr>
        <p:spPr>
          <a:xfrm flipH="1">
            <a:off x="4279680" y="5389560"/>
            <a:ext cx="116820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23" name="Line 389"/>
          <p:cNvSpPr/>
          <p:nvPr/>
        </p:nvSpPr>
        <p:spPr>
          <a:xfrm flipH="1">
            <a:off x="4280040" y="5643720"/>
            <a:ext cx="147312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24" name="Line 390"/>
          <p:cNvSpPr/>
          <p:nvPr/>
        </p:nvSpPr>
        <p:spPr>
          <a:xfrm>
            <a:off x="4280040" y="5389560"/>
            <a:ext cx="1440" cy="25416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25" name="Line 391"/>
          <p:cNvSpPr/>
          <p:nvPr/>
        </p:nvSpPr>
        <p:spPr>
          <a:xfrm flipH="1">
            <a:off x="5435640" y="5751360"/>
            <a:ext cx="2921040" cy="18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26" name="Line 392"/>
          <p:cNvSpPr/>
          <p:nvPr/>
        </p:nvSpPr>
        <p:spPr>
          <a:xfrm flipH="1">
            <a:off x="5435640" y="5796000"/>
            <a:ext cx="292104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27" name="Line 393"/>
          <p:cNvSpPr/>
          <p:nvPr/>
        </p:nvSpPr>
        <p:spPr>
          <a:xfrm>
            <a:off x="5435640" y="5751360"/>
            <a:ext cx="1440" cy="4788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28" name="Line 394"/>
          <p:cNvSpPr/>
          <p:nvPr/>
        </p:nvSpPr>
        <p:spPr>
          <a:xfrm flipH="1">
            <a:off x="3606840" y="5510160"/>
            <a:ext cx="673200" cy="18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29" name="Line 395"/>
          <p:cNvSpPr/>
          <p:nvPr/>
        </p:nvSpPr>
        <p:spPr>
          <a:xfrm flipH="1">
            <a:off x="3606840" y="5775480"/>
            <a:ext cx="182880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30" name="Line 396"/>
          <p:cNvSpPr/>
          <p:nvPr/>
        </p:nvSpPr>
        <p:spPr>
          <a:xfrm>
            <a:off x="3606840" y="5510160"/>
            <a:ext cx="1440" cy="2653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31" name="Line 397"/>
          <p:cNvSpPr/>
          <p:nvPr/>
        </p:nvSpPr>
        <p:spPr>
          <a:xfrm flipH="1">
            <a:off x="3429000" y="4979880"/>
            <a:ext cx="76320" cy="18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32" name="Line 398"/>
          <p:cNvSpPr/>
          <p:nvPr/>
        </p:nvSpPr>
        <p:spPr>
          <a:xfrm flipH="1">
            <a:off x="3429000" y="5643720"/>
            <a:ext cx="17784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33" name="Line 399"/>
          <p:cNvSpPr/>
          <p:nvPr/>
        </p:nvSpPr>
        <p:spPr>
          <a:xfrm>
            <a:off x="3429000" y="4979880"/>
            <a:ext cx="1440" cy="6638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34" name="Line 400"/>
          <p:cNvSpPr/>
          <p:nvPr/>
        </p:nvSpPr>
        <p:spPr>
          <a:xfrm flipH="1">
            <a:off x="2755800" y="5302080"/>
            <a:ext cx="67320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35" name="Line 401"/>
          <p:cNvSpPr/>
          <p:nvPr/>
        </p:nvSpPr>
        <p:spPr>
          <a:xfrm flipH="1">
            <a:off x="2755800" y="5848200"/>
            <a:ext cx="560088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36" name="Line 402"/>
          <p:cNvSpPr/>
          <p:nvPr/>
        </p:nvSpPr>
        <p:spPr>
          <a:xfrm>
            <a:off x="2755800" y="5305320"/>
            <a:ext cx="1800" cy="54288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37" name="Line 403"/>
          <p:cNvSpPr/>
          <p:nvPr/>
        </p:nvSpPr>
        <p:spPr>
          <a:xfrm flipH="1">
            <a:off x="850680" y="5583240"/>
            <a:ext cx="190476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38" name="Text Box 404"/>
          <p:cNvSpPr/>
          <p:nvPr/>
        </p:nvSpPr>
        <p:spPr>
          <a:xfrm>
            <a:off x="900000" y="1844640"/>
            <a:ext cx="1224000" cy="1040400"/>
          </a:xfrm>
          <a:prstGeom prst="rect">
            <a:avLst/>
          </a:pr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Sallent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Ordesa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ff99"/>
                </a:solidFill>
                <a:latin typeface="Arial"/>
              </a:rPr>
              <a:t>Pineta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4 Marcador de pie de página"/>
          <p:cNvSpPr/>
          <p:nvPr/>
        </p:nvSpPr>
        <p:spPr>
          <a:xfrm>
            <a:off x="2050920" y="6453360"/>
            <a:ext cx="58327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Restitución genética de poblaciiones. J.M. Iriondo - Universidad Rey Juan Carlos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grpSp>
        <p:nvGrpSpPr>
          <p:cNvPr id="640" name="Group 3"/>
          <p:cNvGrpSpPr/>
          <p:nvPr/>
        </p:nvGrpSpPr>
        <p:grpSpPr>
          <a:xfrm>
            <a:off x="1692360" y="2205000"/>
            <a:ext cx="5471280" cy="3384720"/>
            <a:chOff x="1692360" y="2205000"/>
            <a:chExt cx="5471280" cy="3384720"/>
          </a:xfrm>
        </p:grpSpPr>
        <p:pic>
          <p:nvPicPr>
            <p:cNvPr id="641" name="Picture 4" descr=""/>
            <p:cNvPicPr/>
            <p:nvPr/>
          </p:nvPicPr>
          <p:blipFill>
            <a:blip r:embed="rId1"/>
            <a:stretch/>
          </p:blipFill>
          <p:spPr>
            <a:xfrm>
              <a:off x="1692360" y="2205000"/>
              <a:ext cx="3583440" cy="3384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42" name="Group 5"/>
            <p:cNvGrpSpPr/>
            <p:nvPr/>
          </p:nvGrpSpPr>
          <p:grpSpPr>
            <a:xfrm>
              <a:off x="5275800" y="3197160"/>
              <a:ext cx="1887840" cy="1398600"/>
              <a:chOff x="5275800" y="3197160"/>
              <a:chExt cx="1887840" cy="1398600"/>
            </a:xfrm>
          </p:grpSpPr>
          <p:sp>
            <p:nvSpPr>
              <p:cNvPr id="643" name="Text Box 6"/>
              <p:cNvSpPr/>
              <p:nvPr/>
            </p:nvSpPr>
            <p:spPr>
              <a:xfrm>
                <a:off x="5617440" y="3715200"/>
                <a:ext cx="892080" cy="37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808080"/>
                    </a:solidFill>
                    <a:latin typeface="Arial"/>
                  </a:rPr>
                  <a:t>Sallent</a:t>
                </a:r>
                <a:endParaRPr b="0" lang="en-US" sz="9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644" name="Text Box 7"/>
              <p:cNvSpPr/>
              <p:nvPr/>
            </p:nvSpPr>
            <p:spPr>
              <a:xfrm>
                <a:off x="5617440" y="4225320"/>
                <a:ext cx="1546200" cy="37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808080"/>
                    </a:solidFill>
                    <a:latin typeface="Arial"/>
                  </a:rPr>
                  <a:t>Sallent / Pineta</a:t>
                </a:r>
                <a:endParaRPr b="0" lang="en-US" sz="9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645" name="Text Box 8"/>
              <p:cNvSpPr/>
              <p:nvPr/>
            </p:nvSpPr>
            <p:spPr>
              <a:xfrm>
                <a:off x="5617440" y="3197160"/>
                <a:ext cx="892080" cy="37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808080"/>
                    </a:solidFill>
                    <a:latin typeface="Arial"/>
                  </a:rPr>
                  <a:t>Pineta</a:t>
                </a:r>
                <a:endParaRPr b="0" lang="en-US" sz="9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646" name="Rectangle 9"/>
              <p:cNvSpPr/>
              <p:nvPr/>
            </p:nvSpPr>
            <p:spPr>
              <a:xfrm>
                <a:off x="5275800" y="3290760"/>
                <a:ext cx="356760" cy="1854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647" name="Rectangle 10"/>
              <p:cNvSpPr/>
              <p:nvPr/>
            </p:nvSpPr>
            <p:spPr>
              <a:xfrm>
                <a:off x="5275800" y="3808080"/>
                <a:ext cx="356760" cy="18540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648" name="Rectangle 11"/>
              <p:cNvSpPr/>
              <p:nvPr/>
            </p:nvSpPr>
            <p:spPr>
              <a:xfrm>
                <a:off x="5275800" y="4318200"/>
                <a:ext cx="356760" cy="18540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</p:grpSp>
      </p:grpSp>
      <p:sp>
        <p:nvSpPr>
          <p:cNvPr id="649" name="Text Box 12"/>
          <p:cNvSpPr/>
          <p:nvPr/>
        </p:nvSpPr>
        <p:spPr>
          <a:xfrm>
            <a:off x="4500720" y="242100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00080"/>
                </a:solidFill>
                <a:latin typeface="Arial Narrow"/>
              </a:rPr>
              <a:t>Faja Tormosa (5 genotipos)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50" name="Rectangle 14"/>
          <p:cNvSpPr/>
          <p:nvPr/>
        </p:nvSpPr>
        <p:spPr>
          <a:xfrm>
            <a:off x="5257800" y="38088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Cuáles?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51" name="Rectangle 15"/>
          <p:cNvSpPr/>
          <p:nvPr/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990000"/>
                </a:solidFill>
                <a:latin typeface="Arial"/>
              </a:rPr>
              <a:t>Criterio genético</a:t>
            </a:r>
            <a:endParaRPr b="0" lang="en-US" sz="4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4 Marcador de pie de página"/>
          <p:cNvSpPr/>
          <p:nvPr/>
        </p:nvSpPr>
        <p:spPr>
          <a:xfrm>
            <a:off x="2050920" y="6453360"/>
            <a:ext cx="58327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Restitución genética de poblaciiones. J.M. Iriondo - Universidad Rey Juan Carlos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66"/>
                </a:solidFill>
                <a:latin typeface="Arial"/>
              </a:rPr>
              <a:t>Escasa diversidad genética en las poblaciones del PNOMP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66"/>
                </a:solidFill>
                <a:latin typeface="Arial"/>
              </a:rPr>
              <a:t>Baja diferenciación genética entre poblaciones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66"/>
                </a:solidFill>
                <a:latin typeface="Arial"/>
              </a:rPr>
              <a:t>Tanto Sallent como Pineta son opciones válidas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54" name="Rectangle 5"/>
          <p:cNvSpPr/>
          <p:nvPr/>
        </p:nvSpPr>
        <p:spPr>
          <a:xfrm>
            <a:off x="5257800" y="38088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Cuáles?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990000"/>
                </a:solidFill>
                <a:latin typeface="Arial"/>
              </a:rPr>
              <a:t>Criterio genético</a:t>
            </a:r>
            <a:endParaRPr b="0" lang="en-US" sz="4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3 Marcador de pie de página"/>
          <p:cNvSpPr/>
          <p:nvPr/>
        </p:nvSpPr>
        <p:spPr>
          <a:xfrm>
            <a:off x="2050920" y="6453360"/>
            <a:ext cx="58327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Restitución genética de poblaciiones. J.M. Iriondo - Universidad Rey Juan Carlos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657" name=""/>
          <p:cNvGraphicFramePr/>
          <p:nvPr/>
        </p:nvGraphicFramePr>
        <p:xfrm>
          <a:off x="395280" y="1773360"/>
          <a:ext cx="8569440" cy="4182840"/>
        </p:xfrm>
        <a:graphic>
          <a:graphicData uri="http://schemas.openxmlformats.org/drawingml/2006/table">
            <a:tbl>
              <a:tblPr/>
              <a:tblGrid>
                <a:gridCol w="1225440"/>
                <a:gridCol w="1222560"/>
                <a:gridCol w="1225440"/>
                <a:gridCol w="1225440"/>
                <a:gridCol w="1222560"/>
                <a:gridCol w="1225440"/>
                <a:gridCol w="1222560"/>
              </a:tblGrid>
              <a:tr h="562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Gene Pool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Ecosistema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Lugar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Taxón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Ident. Genet.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Adapt. Ecol.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Var.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Genet.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1A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Igual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Igual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Igual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Muy alta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Alta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Baja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1B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Igual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Múltiple similar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Igual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Muy alta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Alta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Moderada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1C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Igual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Diferente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Igual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Alta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Alta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Baja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2A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Diferente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Diferente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Igual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Baja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Moderada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Baja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2B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Diferente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Diferente (varios orig)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Igual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Moderada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Moderada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Alta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3 (híbrido)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Diferente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Diferente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Cercano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Muy baja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?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Alta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432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4A (nativo)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Diferente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Diferente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Lejano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Diferente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Muy alta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Variable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4B (introd)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Diferente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Diferente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Lejano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Diferente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Muy alta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Variable</a:t>
                      </a:r>
                      <a:endParaRPr b="0" lang="en-US" sz="1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8" name="Rectangle 86"/>
          <p:cNvSpPr/>
          <p:nvPr/>
        </p:nvSpPr>
        <p:spPr>
          <a:xfrm>
            <a:off x="7128000" y="0"/>
            <a:ext cx="201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Cuáles?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59" name="Rectangle 87"/>
          <p:cNvSpPr/>
          <p:nvPr/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990000"/>
                </a:solidFill>
                <a:latin typeface="Arial"/>
              </a:rPr>
              <a:t>Restoration gene pool concept </a:t>
            </a: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(Jones, 2003; Jones &amp; Monaco, 2007)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4 Marcador de pie de página"/>
          <p:cNvSpPr/>
          <p:nvPr/>
        </p:nvSpPr>
        <p:spPr>
          <a:xfrm>
            <a:off x="2050920" y="6453360"/>
            <a:ext cx="58327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Restitución genética de poblaciones. J.M. Iriondo - Universidad Rey Juan Carlos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66"/>
                </a:solidFill>
                <a:latin typeface="Arial"/>
              </a:rPr>
              <a:t>Refuerzo continuado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Puede ser necesario para completar el tamaño poblacional deseado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No se debe mantener de forma indefinida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Reduce la fitness de la población nativa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Traslada maladaptación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Puede reducir la diversidad genética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990000"/>
                </a:solidFill>
                <a:latin typeface="Arial"/>
              </a:rPr>
              <a:t>¿Cuántos?</a:t>
            </a:r>
            <a:endParaRPr b="0" lang="en-US" sz="4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4 Marcador de pie de página"/>
          <p:cNvSpPr/>
          <p:nvPr/>
        </p:nvSpPr>
        <p:spPr>
          <a:xfrm>
            <a:off x="2050920" y="6453360"/>
            <a:ext cx="58327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Restitución genética de poblaciones. J.M. Iriondo - Universidad Rey Juan Carlos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336666"/>
                </a:solidFill>
                <a:latin typeface="Arial"/>
              </a:rPr>
              <a:t>Narcissus cavanillesii</a:t>
            </a: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Toda la población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336666"/>
                </a:solidFill>
                <a:latin typeface="Arial"/>
              </a:rPr>
              <a:t>Cypripedium calceolus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500 individuos (basado en poblaciones viables)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Todos los que se pueda propagar en un año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Campañas a lo largo de varios años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990000"/>
                </a:solidFill>
                <a:latin typeface="Arial"/>
              </a:rPr>
              <a:t>¿Cuántos?</a:t>
            </a:r>
            <a:endParaRPr b="0" lang="en-US" sz="4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4 Marcador de pie de página"/>
          <p:cNvSpPr/>
          <p:nvPr/>
        </p:nvSpPr>
        <p:spPr>
          <a:xfrm>
            <a:off x="2050920" y="6453360"/>
            <a:ext cx="58327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Restitución genética de poblaciones. J.M. Iriondo - Universidad Rey Juan Carlos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Viabilidad = f (reproducción, supervivencia).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Evidencia empírica y de simulación: </a:t>
            </a:r>
            <a:r>
              <a:rPr b="0" i="1" lang="es-ES_tradnl" sz="2400" spc="-1" strike="noStrike">
                <a:solidFill>
                  <a:srgbClr val="3333ff"/>
                </a:solidFill>
                <a:latin typeface="Arial"/>
              </a:rPr>
              <a:t>mejores resultados con individuos adultos  que  con individuos recién nacidos o juveniles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Mamíferos y aves: problemas de adaptación al medio natural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Recrear estructura de poblaciones naturales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liberaciones/plantaciones mixtas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liberaciones/plantaciones sucesivas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990000"/>
                </a:solidFill>
                <a:latin typeface="Arial"/>
              </a:rPr>
              <a:t>¿Cuáles?</a:t>
            </a:r>
            <a:endParaRPr b="0" lang="en-US" sz="4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4 Marcador de pie de página"/>
          <p:cNvSpPr/>
          <p:nvPr/>
        </p:nvSpPr>
        <p:spPr>
          <a:xfrm>
            <a:off x="2050920" y="6453360"/>
            <a:ext cx="58327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Restitución genética de poblaciones. J.M. Iriondo - Universidad Rey Juan Carlos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66"/>
                </a:solidFill>
                <a:latin typeface="Arial"/>
              </a:rPr>
              <a:t>Objetivo</a:t>
            </a: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:</a:t>
            </a:r>
            <a:r>
              <a:rPr b="0" lang="es-ES_tradnl" sz="2400" spc="-1" strike="noStrike">
                <a:solidFill>
                  <a:srgbClr val="cccccc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Poblaciones autosostenibles adaptadas al lugar que posean la diversidad genética necesaria para experimentar cambios evolutivos adaptativos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66"/>
                </a:solidFill>
                <a:latin typeface="Arial"/>
              </a:rPr>
              <a:t>Factores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origen genético de los fundadores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número efectivo de individuos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6804000" y="380880"/>
            <a:ext cx="2187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Cuáles?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0000"/>
                </a:solidFill>
                <a:latin typeface="Arial"/>
              </a:rPr>
              <a:t>Composición genética</a:t>
            </a: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4 Marcador de pie de página"/>
          <p:cNvSpPr/>
          <p:nvPr/>
        </p:nvSpPr>
        <p:spPr>
          <a:xfrm>
            <a:off x="2050920" y="6453360"/>
            <a:ext cx="58327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Restitución genética de poblaciones. J.M. Iriondo - Universidad Rey Juan Carlos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523880" y="2590560"/>
            <a:ext cx="701064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Población viable genéticamente más afín desde un punto de vista adaptativo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Más cercana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Características ecológicas más próximas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Menor distancia genética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Evitar material de origen desconocido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6956280" y="189000"/>
            <a:ext cx="2187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Cuáles?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990000"/>
                </a:solidFill>
                <a:latin typeface="Arial"/>
              </a:rPr>
              <a:t>Origen genético de los fundadores</a:t>
            </a:r>
            <a:endParaRPr b="0" lang="en-US" sz="4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685800" y="1981080"/>
            <a:ext cx="453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6666"/>
                </a:solidFill>
                <a:latin typeface="Arial"/>
                <a:ea typeface="Arial"/>
              </a:rPr>
              <a:t>Roedores granívoros del desierto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6666"/>
                </a:solidFill>
                <a:latin typeface="Arial"/>
                <a:ea typeface="Arial"/>
              </a:rPr>
              <a:t>Normalmente color claro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6666"/>
                </a:solidFill>
                <a:latin typeface="Arial"/>
                <a:ea typeface="Arial"/>
              </a:rPr>
              <a:t>Hábito nocturno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6666"/>
                </a:solidFill>
                <a:latin typeface="Arial"/>
                <a:ea typeface="Arial"/>
              </a:rPr>
              <a:t>Depredados por lechuzas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6666"/>
                </a:solidFill>
                <a:latin typeface="Arial"/>
                <a:ea typeface="Arial"/>
              </a:rPr>
              <a:t>Los que viven sobre roca de lava son melánicos.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6666"/>
                </a:solidFill>
                <a:latin typeface="Arial"/>
                <a:ea typeface="Arial"/>
              </a:rPr>
              <a:t>Población melánica con mutación en el gen receptor melanocortin-1.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6666"/>
                </a:solidFill>
                <a:latin typeface="Arial"/>
                <a:ea typeface="Arial"/>
              </a:rPr>
              <a:t>Otras poblaciones melánicas no poseen estas mutaciones (evolución convergente)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6666"/>
                </a:solidFill>
                <a:latin typeface="Arial"/>
                <a:ea typeface="Arial"/>
              </a:rPr>
              <a:t>Implicaciones en restitución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0000"/>
                </a:solidFill>
                <a:latin typeface="Arial"/>
                <a:ea typeface="Arial"/>
              </a:rPr>
              <a:t>Ej. Selección del color en rock pocket mice (</a:t>
            </a:r>
            <a:r>
              <a:rPr b="0" i="1" lang="es-ES" sz="2400" spc="-1" strike="noStrike">
                <a:solidFill>
                  <a:srgbClr val="c00000"/>
                </a:solidFill>
                <a:latin typeface="Arial"/>
                <a:ea typeface="Arial"/>
              </a:rPr>
              <a:t>Chaetodipus intermedius</a:t>
            </a:r>
            <a:r>
              <a:rPr b="0" lang="es-ES" sz="2400" spc="-1" strike="noStrike">
                <a:solidFill>
                  <a:srgbClr val="c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30" name="Picture 2" descr="http://www.google.es/url?source=imgres&amp;ct=img&amp;q=http://uanews.org/system/files/images/pocketmice1.lg_horiz.jpg&amp;sa=X&amp;ei=vcsqTeyuAc744AbIltyEAg&amp;ved=0CAQQ8wc&amp;usg=AFQjCNFEDoHS3cbyShXWaOMHfYKt50tmAQ"/>
          <p:cNvPicPr/>
          <p:nvPr/>
        </p:nvPicPr>
        <p:blipFill>
          <a:blip r:embed="rId1"/>
          <a:stretch/>
        </p:blipFill>
        <p:spPr>
          <a:xfrm>
            <a:off x="5286240" y="1747800"/>
            <a:ext cx="317520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1T10:00:52Z</dcterms:created>
  <dc:creator>Jose M. Iriondo</dc:creator>
  <dc:description/>
  <dc:language>en-US</dc:language>
  <cp:lastModifiedBy>José María Iriondo Alegría</cp:lastModifiedBy>
  <dcterms:modified xsi:type="dcterms:W3CDTF">2015-04-10T08:00:50Z</dcterms:modified>
  <cp:revision>57</cp:revision>
  <dc:subject/>
  <dc:title>Weighted Interaction Nestedness Estimator (WINE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